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495B-C230-4D6E-8090-B99A39E3B3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selectivity is related to the seed we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number of random matches can be approximated/estimated using the the following formul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ensitivity,  it can be formulated as “the probability for a seed to detect an interesting similar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define which similarities have to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one in  two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has to be defined and probabilities have to be ascribed to this 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proposed by PatternHunter to detect similarities is called spaced s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 Beacoup d’article sur les graines espacées ces dernières années (Karkainne … patern matchin exact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ed pattern searched is composed of matches letters (sharp) but also joker 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don’t” care which means that we do not care about the column of the alignment under this similarity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quantities can be measured on a spaced se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following example I want the previous seed to detect this simi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try to match the seed at the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on, then I will align an error with the second matching element: the seed does not detect the similarity at this 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I shift the seed by one position on the le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ssible errors in my seed are under joker pos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plies that the seed will detect the similarity  at this posi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 ростом объема доступной информации роль сравнительных методов драматически возрастает. Только меньшая часть вновь расшифрован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руктур….; дрозофилы 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 methode utilisée par plusieurs outils d’alignement local est basée sur la recherche de court fragments conservé appelés graines. Une deuxième étape implique une extension des graines en possibles align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 methode utilisée par plusieurs outils d’alignement local est basée sur la recherche de court fragments conservé appelés graines. Une deuxième étape implique une extension des graines en possibles align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selectivity is related to the seed we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number of random matches can be approximated/estimated using the the following formul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ensitivity,  it can be formulated as “the probability for a seed to detect an interesting similar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define which similarities have to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one in  two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has to be defined and probabilities have to be ascribed to this 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661-B4F8-4A88-8A28-19E9BC0D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B12-E4A9-4324-A75A-FBCAED31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5BD-586E-41EF-8EBA-03F4298B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FB9-1A4D-49A9-8AB0-75874D6F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086A-96C6-40D7-B016-6A2C0C21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AA6E-21F3-4163-A923-C7F511A9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DA11-B8B5-4EDB-823B-3A1BA7DC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992D-7DB5-4A56-80DB-D94B7778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F8F1-FBEE-4E96-BB5B-F2D19F0C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493F-4071-4526-8D4F-62C01343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6643-B1AD-4A79-8B32-D47132FE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D50-88A7-442A-9688-E26FCBC8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2542-61F3-4D94-9325-1531A1DC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A21D-FD78-44DC-B206-2D1F857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DC76-EA7F-41A8-BCA6-039D36BA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59DD-EE20-44CC-9ED7-D1D9D12B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E919-84B0-4DF1-B923-BD826393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CEB-4E98-47CB-B9C5-3A5F2146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D0E-3C09-4724-8283-28D5196F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8FA-A744-4104-82F3-2A479EE9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7CB-C9D9-4B30-9EC2-A448ECFB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923-7245-4D01-B59A-977C10B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438-35A2-4AB5-B42C-3335AEC8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8FB-2D15-4BEE-B54F-3A311CE1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F3B6-776F-4F84-B2CA-7881A03C6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7ECD-A027-4899-A230-974F3E85B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а молекулярной и теоретической биологии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«ДИНАСТИЯ»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213372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Занятие 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Локальные сход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548520" y="5268960"/>
            <a:ext cx="2105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Arial"/>
              </a:rPr>
              <a:t>П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ущи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5 июля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Verdana"/>
              </a:rPr>
              <a:t>Множество важных</a:t>
            </a: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 [</a:t>
            </a:r>
            <a:r>
              <a:rPr b="1" lang="ru-RU" sz="3200" spc="-1" strike="noStrike">
                <a:solidFill>
                  <a:srgbClr val="3333cc"/>
                </a:solidFill>
                <a:latin typeface="Verdana"/>
              </a:rPr>
              <a:t>целевых</a:t>
            </a: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] </a:t>
            </a:r>
            <a:r>
              <a:rPr b="1" lang="ru-RU" sz="3200" spc="-1" strike="noStrike">
                <a:solidFill>
                  <a:srgbClr val="3333cc"/>
                </a:solidFill>
                <a:latin typeface="Verdana"/>
              </a:rPr>
              <a:t>выравниваний и их вероятности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равнивания фиксированной длины без удален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fr-FR" sz="1800" spc="-1" strike="noStrike">
                <a:solidFill>
                  <a:srgbClr val="000000"/>
                </a:solidFill>
                <a:latin typeface="Verdana"/>
              </a:rPr>
              <a:t>L=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ероятностная модель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Бернулли</a:t>
            </a:r>
            <a:r>
              <a:rPr b="0" i="1" lang="en-US" sz="2500" spc="-1" strike="noStrike">
                <a:solidFill>
                  <a:srgbClr val="00cc99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Verdana"/>
              </a:rPr>
              <a:t>Случайные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р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нивания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(match) =0.25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cc99"/>
                </a:solidFill>
                <a:latin typeface="Verdana"/>
              </a:rPr>
              <a:t>Целевые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равнивания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: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(match) &gt;&gt; 0.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бобщения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Марковские модели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крытые марковские модели (сегодня не рассматривае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692360" y="2060640"/>
            <a:ext cx="5759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Arial"/>
              </a:rPr>
              <a:t>GCTACGACTTCGAGCT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..CTCA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Arial"/>
              </a:rPr>
              <a:t>GCTATGACCTCGAGCGG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CTATCTA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2843280" y="2492280"/>
            <a:ext cx="2743200" cy="152280"/>
            <a:chOff x="2843280" y="2492280"/>
            <a:chExt cx="2743200" cy="152280"/>
          </a:xfrm>
        </p:grpSpPr>
        <p:sp>
          <p:nvSpPr>
            <p:cNvPr id="200" name="Rectangle 6"/>
            <p:cNvSpPr/>
            <p:nvPr/>
          </p:nvSpPr>
          <p:spPr>
            <a:xfrm>
              <a:off x="2843280" y="249228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299592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8"/>
            <p:cNvSpPr/>
            <p:nvPr/>
          </p:nvSpPr>
          <p:spPr>
            <a:xfrm>
              <a:off x="314820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3300480" y="249228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3453120" y="2492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360540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3757680" y="249228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391032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062600" y="2492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4214880" y="249228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436752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7"/>
            <p:cNvSpPr/>
            <p:nvPr/>
          </p:nvSpPr>
          <p:spPr>
            <a:xfrm>
              <a:off x="451980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8"/>
            <p:cNvSpPr/>
            <p:nvPr/>
          </p:nvSpPr>
          <p:spPr>
            <a:xfrm>
              <a:off x="4672080" y="249228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9"/>
            <p:cNvSpPr/>
            <p:nvPr/>
          </p:nvSpPr>
          <p:spPr>
            <a:xfrm>
              <a:off x="482472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20"/>
            <p:cNvSpPr/>
            <p:nvPr/>
          </p:nvSpPr>
          <p:spPr>
            <a:xfrm>
              <a:off x="497700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21"/>
            <p:cNvSpPr/>
            <p:nvPr/>
          </p:nvSpPr>
          <p:spPr>
            <a:xfrm>
              <a:off x="5129280" y="249228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22"/>
            <p:cNvSpPr/>
            <p:nvPr/>
          </p:nvSpPr>
          <p:spPr>
            <a:xfrm>
              <a:off x="528192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23"/>
            <p:cNvSpPr/>
            <p:nvPr/>
          </p:nvSpPr>
          <p:spPr>
            <a:xfrm>
              <a:off x="5434200" y="249228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Verdana"/>
              </a:rPr>
              <a:t>Ну и…?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2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8CD8-D09A-4D6C-B01B-2B7B16F09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Verdana"/>
              </a:rPr>
              <a:t>Разреженные затравки</a:t>
            </a:r>
            <a:r>
              <a:rPr b="1" i="1" lang="en-US" sz="4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Ma, Tromp, Li 2002 (PatternHunter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Verdana"/>
              </a:rPr>
              <a:t>Затравка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##--#-##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Verdana"/>
              </a:rPr>
              <a:t>      ‘</a:t>
            </a:r>
            <a:r>
              <a:rPr b="1" lang="en-US" sz="3100" spc="-1" strike="noStrike">
                <a:solidFill>
                  <a:srgbClr val="3333cc"/>
                </a:solidFill>
                <a:latin typeface="Courier New"/>
              </a:rPr>
              <a:t>#</a:t>
            </a:r>
            <a:r>
              <a:rPr b="0" lang="en-US" sz="3100" spc="-1" strike="noStrike">
                <a:solidFill>
                  <a:srgbClr val="3333cc"/>
                </a:solidFill>
                <a:latin typeface="Verdana"/>
              </a:rPr>
              <a:t>’ : </a:t>
            </a:r>
            <a:r>
              <a:rPr b="0" lang="ru-RU" sz="3100" spc="-1" strike="noStrike">
                <a:solidFill>
                  <a:srgbClr val="3333cc"/>
                </a:solidFill>
                <a:latin typeface="Verdana"/>
              </a:rPr>
              <a:t>должно быть совпадение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   ‘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’ : </a:t>
            </a:r>
            <a:r>
              <a:rPr b="0" lang="ru-RU" sz="2400" spc="-1" strike="noStrike">
                <a:solidFill>
                  <a:srgbClr val="3333cc"/>
                </a:solidFill>
                <a:latin typeface="Verdana"/>
              </a:rPr>
              <a:t>«джокер»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(“</a:t>
            </a:r>
            <a:r>
              <a:rPr b="0" lang="ru-RU" sz="2400" spc="-1" strike="noStrike">
                <a:solidFill>
                  <a:srgbClr val="3333cc"/>
                </a:solidFill>
                <a:latin typeface="Verdana"/>
              </a:rPr>
              <a:t>все равно, что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”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Verdana"/>
              </a:rPr>
              <a:t>           </a:t>
            </a: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Ве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: 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#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132000" y="4365720"/>
            <a:ext cx="4327560" cy="163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###--#-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T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A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GCTCA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|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.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.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:||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C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G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GCGCA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1547640" y="242100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14"/>
                </a:lnTo>
                <a:cubicBezTo>
                  <a:pt x="10800" y="10414"/>
                  <a:pt x="5400" y="11314"/>
                  <a:pt x="0" y="11314"/>
                </a:cubicBezTo>
                <a:cubicBezTo>
                  <a:pt x="5400" y="11314"/>
                  <a:pt x="10800" y="12214"/>
                  <a:pt x="10800" y="1311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26" name="Rectangle 3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Group 4"/>
            <p:cNvGrpSpPr/>
            <p:nvPr/>
          </p:nvGrpSpPr>
          <p:grpSpPr>
            <a:xfrm>
              <a:off x="4703760" y="120600"/>
              <a:ext cx="2497320" cy="1233000"/>
              <a:chOff x="4703760" y="120600"/>
              <a:chExt cx="2497320" cy="1233000"/>
            </a:xfrm>
          </p:grpSpPr>
          <p:sp>
            <p:nvSpPr>
              <p:cNvPr id="228" name="Text Box 5"/>
              <p:cNvSpPr/>
              <p:nvPr/>
            </p:nvSpPr>
            <p:spPr>
              <a:xfrm>
                <a:off x="4703760" y="501480"/>
                <a:ext cx="249732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Text Box 6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7"/>
            <p:cNvGrpSpPr/>
            <p:nvPr/>
          </p:nvGrpSpPr>
          <p:grpSpPr>
            <a:xfrm>
              <a:off x="2017800" y="120600"/>
              <a:ext cx="2516040" cy="1233000"/>
              <a:chOff x="2017800" y="120600"/>
              <a:chExt cx="2516040" cy="1233000"/>
            </a:xfrm>
          </p:grpSpPr>
          <p:sp>
            <p:nvSpPr>
              <p:cNvPr id="231" name="Text Box 8"/>
              <p:cNvSpPr/>
              <p:nvPr/>
            </p:nvSpPr>
            <p:spPr>
              <a:xfrm>
                <a:off x="2017800" y="501480"/>
                <a:ext cx="251604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9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0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34" name="Rectangle 11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12"/>
            <p:cNvGrpSpPr/>
            <p:nvPr/>
          </p:nvGrpSpPr>
          <p:grpSpPr>
            <a:xfrm>
              <a:off x="4703760" y="120600"/>
              <a:ext cx="2497320" cy="4199040"/>
              <a:chOff x="4703760" y="120600"/>
              <a:chExt cx="2497320" cy="4199040"/>
            </a:xfrm>
          </p:grpSpPr>
          <p:sp>
            <p:nvSpPr>
              <p:cNvPr id="236" name="Text Box 13"/>
              <p:cNvSpPr/>
              <p:nvPr/>
            </p:nvSpPr>
            <p:spPr>
              <a:xfrm>
                <a:off x="4703760" y="501480"/>
                <a:ext cx="2497320" cy="381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Text Box 14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15"/>
            <p:cNvGrpSpPr/>
            <p:nvPr/>
          </p:nvGrpSpPr>
          <p:grpSpPr>
            <a:xfrm>
              <a:off x="2017800" y="120600"/>
              <a:ext cx="2516040" cy="5007960"/>
              <a:chOff x="2017800" y="120600"/>
              <a:chExt cx="2516040" cy="5007960"/>
            </a:xfrm>
          </p:grpSpPr>
          <p:sp>
            <p:nvSpPr>
              <p:cNvPr id="239" name="Text Box 16"/>
              <p:cNvSpPr/>
              <p:nvPr/>
            </p:nvSpPr>
            <p:spPr>
              <a:xfrm>
                <a:off x="2017800" y="501480"/>
                <a:ext cx="2516040" cy="46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17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18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42" name="Rectangle 19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20"/>
            <p:cNvGrpSpPr/>
            <p:nvPr/>
          </p:nvGrpSpPr>
          <p:grpSpPr>
            <a:xfrm>
              <a:off x="4703760" y="120600"/>
              <a:ext cx="2497320" cy="1233000"/>
              <a:chOff x="4703760" y="120600"/>
              <a:chExt cx="2497320" cy="1233000"/>
            </a:xfrm>
          </p:grpSpPr>
          <p:sp>
            <p:nvSpPr>
              <p:cNvPr id="244" name="Text Box 21"/>
              <p:cNvSpPr/>
              <p:nvPr/>
            </p:nvSpPr>
            <p:spPr>
              <a:xfrm>
                <a:off x="4703760" y="501480"/>
                <a:ext cx="249732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Text Box 22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23"/>
            <p:cNvGrpSpPr/>
            <p:nvPr/>
          </p:nvGrpSpPr>
          <p:grpSpPr>
            <a:xfrm>
              <a:off x="2017800" y="120600"/>
              <a:ext cx="2516040" cy="1233000"/>
              <a:chOff x="2017800" y="120600"/>
              <a:chExt cx="2516040" cy="1233000"/>
            </a:xfrm>
          </p:grpSpPr>
          <p:sp>
            <p:nvSpPr>
              <p:cNvPr id="247" name="Text Box 24"/>
              <p:cNvSpPr/>
              <p:nvPr/>
            </p:nvSpPr>
            <p:spPr>
              <a:xfrm>
                <a:off x="2017800" y="501480"/>
                <a:ext cx="251604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T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25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Group 26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50" name="Rectangle 27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Group 28"/>
            <p:cNvGrpSpPr/>
            <p:nvPr/>
          </p:nvGrpSpPr>
          <p:grpSpPr>
            <a:xfrm>
              <a:off x="4703760" y="120600"/>
              <a:ext cx="2497320" cy="1233000"/>
              <a:chOff x="4703760" y="120600"/>
              <a:chExt cx="2497320" cy="1233000"/>
            </a:xfrm>
          </p:grpSpPr>
          <p:sp>
            <p:nvSpPr>
              <p:cNvPr id="252" name="Text Box 29"/>
              <p:cNvSpPr/>
              <p:nvPr/>
            </p:nvSpPr>
            <p:spPr>
              <a:xfrm>
                <a:off x="4703760" y="501480"/>
                <a:ext cx="249732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Text Box 30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31"/>
            <p:cNvGrpSpPr/>
            <p:nvPr/>
          </p:nvGrpSpPr>
          <p:grpSpPr>
            <a:xfrm>
              <a:off x="2017800" y="120600"/>
              <a:ext cx="2516040" cy="1233000"/>
              <a:chOff x="2017800" y="120600"/>
              <a:chExt cx="2516040" cy="1233000"/>
            </a:xfrm>
          </p:grpSpPr>
          <p:sp>
            <p:nvSpPr>
              <p:cNvPr id="255" name="Text Box 32"/>
              <p:cNvSpPr/>
              <p:nvPr/>
            </p:nvSpPr>
            <p:spPr>
              <a:xfrm>
                <a:off x="2017800" y="501480"/>
                <a:ext cx="251604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Text Box 33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34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58" name="Rectangle 35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36"/>
            <p:cNvGrpSpPr/>
            <p:nvPr/>
          </p:nvGrpSpPr>
          <p:grpSpPr>
            <a:xfrm>
              <a:off x="4703760" y="120600"/>
              <a:ext cx="2497320" cy="4199040"/>
              <a:chOff x="4703760" y="120600"/>
              <a:chExt cx="2497320" cy="4199040"/>
            </a:xfrm>
          </p:grpSpPr>
          <p:sp>
            <p:nvSpPr>
              <p:cNvPr id="260" name="Text Box 37"/>
              <p:cNvSpPr/>
              <p:nvPr/>
            </p:nvSpPr>
            <p:spPr>
              <a:xfrm>
                <a:off x="4703760" y="501480"/>
                <a:ext cx="2497320" cy="381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Text Box 38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39"/>
            <p:cNvGrpSpPr/>
            <p:nvPr/>
          </p:nvGrpSpPr>
          <p:grpSpPr>
            <a:xfrm>
              <a:off x="2017800" y="120600"/>
              <a:ext cx="2516040" cy="5007960"/>
              <a:chOff x="2017800" y="120600"/>
              <a:chExt cx="2516040" cy="5007960"/>
            </a:xfrm>
          </p:grpSpPr>
          <p:sp>
            <p:nvSpPr>
              <p:cNvPr id="263" name="Text Box 40"/>
              <p:cNvSpPr/>
              <p:nvPr/>
            </p:nvSpPr>
            <p:spPr>
              <a:xfrm>
                <a:off x="2017800" y="501480"/>
                <a:ext cx="2516040" cy="46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41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Group 42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66" name="Rectangle 43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4"/>
            <p:cNvGrpSpPr/>
            <p:nvPr/>
          </p:nvGrpSpPr>
          <p:grpSpPr>
            <a:xfrm>
              <a:off x="4703760" y="120600"/>
              <a:ext cx="2497320" cy="4199040"/>
              <a:chOff x="4703760" y="120600"/>
              <a:chExt cx="2497320" cy="4199040"/>
            </a:xfrm>
          </p:grpSpPr>
          <p:sp>
            <p:nvSpPr>
              <p:cNvPr id="268" name="Text Box 45"/>
              <p:cNvSpPr/>
              <p:nvPr/>
            </p:nvSpPr>
            <p:spPr>
              <a:xfrm>
                <a:off x="4703760" y="501480"/>
                <a:ext cx="2497320" cy="381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46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47"/>
            <p:cNvGrpSpPr/>
            <p:nvPr/>
          </p:nvGrpSpPr>
          <p:grpSpPr>
            <a:xfrm>
              <a:off x="2017800" y="120600"/>
              <a:ext cx="2516040" cy="5007960"/>
              <a:chOff x="2017800" y="120600"/>
              <a:chExt cx="2516040" cy="5007960"/>
            </a:xfrm>
          </p:grpSpPr>
          <p:sp>
            <p:nvSpPr>
              <p:cNvPr id="271" name="Text Box 48"/>
              <p:cNvSpPr/>
              <p:nvPr/>
            </p:nvSpPr>
            <p:spPr>
              <a:xfrm>
                <a:off x="2017800" y="501480"/>
                <a:ext cx="2516040" cy="46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Text Box 49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Group 50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74" name="Rectangle 51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Group 52"/>
            <p:cNvGrpSpPr/>
            <p:nvPr/>
          </p:nvGrpSpPr>
          <p:grpSpPr>
            <a:xfrm>
              <a:off x="4703760" y="120600"/>
              <a:ext cx="2497320" cy="1233000"/>
              <a:chOff x="4703760" y="120600"/>
              <a:chExt cx="2497320" cy="1233000"/>
            </a:xfrm>
          </p:grpSpPr>
          <p:sp>
            <p:nvSpPr>
              <p:cNvPr id="276" name="Text Box 53"/>
              <p:cNvSpPr/>
              <p:nvPr/>
            </p:nvSpPr>
            <p:spPr>
              <a:xfrm>
                <a:off x="4703760" y="501480"/>
                <a:ext cx="249732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Text Box 54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55"/>
            <p:cNvGrpSpPr/>
            <p:nvPr/>
          </p:nvGrpSpPr>
          <p:grpSpPr>
            <a:xfrm>
              <a:off x="2017800" y="120600"/>
              <a:ext cx="2516040" cy="1233000"/>
              <a:chOff x="2017800" y="120600"/>
              <a:chExt cx="2516040" cy="1233000"/>
            </a:xfrm>
          </p:grpSpPr>
          <p:sp>
            <p:nvSpPr>
              <p:cNvPr id="279" name="Text Box 56"/>
              <p:cNvSpPr/>
              <p:nvPr/>
            </p:nvSpPr>
            <p:spPr>
              <a:xfrm>
                <a:off x="2017800" y="501480"/>
                <a:ext cx="251604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|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T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ext Box 57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58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82" name="Rectangle 59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60"/>
            <p:cNvGrpSpPr/>
            <p:nvPr/>
          </p:nvGrpSpPr>
          <p:grpSpPr>
            <a:xfrm>
              <a:off x="4703760" y="120600"/>
              <a:ext cx="2497320" cy="1233000"/>
              <a:chOff x="4703760" y="120600"/>
              <a:chExt cx="2497320" cy="1233000"/>
            </a:xfrm>
          </p:grpSpPr>
          <p:sp>
            <p:nvSpPr>
              <p:cNvPr id="284" name="Text Box 61"/>
              <p:cNvSpPr/>
              <p:nvPr/>
            </p:nvSpPr>
            <p:spPr>
              <a:xfrm>
                <a:off x="4703760" y="501480"/>
                <a:ext cx="249732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62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63"/>
            <p:cNvGrpSpPr/>
            <p:nvPr/>
          </p:nvGrpSpPr>
          <p:grpSpPr>
            <a:xfrm>
              <a:off x="2017800" y="120600"/>
              <a:ext cx="2516040" cy="1233000"/>
              <a:chOff x="2017800" y="120600"/>
              <a:chExt cx="2516040" cy="1233000"/>
            </a:xfrm>
          </p:grpSpPr>
          <p:sp>
            <p:nvSpPr>
              <p:cNvPr id="287" name="Text Box 64"/>
              <p:cNvSpPr/>
              <p:nvPr/>
            </p:nvSpPr>
            <p:spPr>
              <a:xfrm>
                <a:off x="2017800" y="501480"/>
                <a:ext cx="251604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65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Group 66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90" name="Rectangle 67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Group 68"/>
            <p:cNvGrpSpPr/>
            <p:nvPr/>
          </p:nvGrpSpPr>
          <p:grpSpPr>
            <a:xfrm>
              <a:off x="4703760" y="120600"/>
              <a:ext cx="2497320" cy="4199040"/>
              <a:chOff x="4703760" y="120600"/>
              <a:chExt cx="2497320" cy="4199040"/>
            </a:xfrm>
          </p:grpSpPr>
          <p:sp>
            <p:nvSpPr>
              <p:cNvPr id="292" name="Text Box 69"/>
              <p:cNvSpPr/>
              <p:nvPr/>
            </p:nvSpPr>
            <p:spPr>
              <a:xfrm>
                <a:off x="4703760" y="501480"/>
                <a:ext cx="2497320" cy="381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--#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70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71"/>
            <p:cNvGrpSpPr/>
            <p:nvPr/>
          </p:nvGrpSpPr>
          <p:grpSpPr>
            <a:xfrm>
              <a:off x="2017800" y="120600"/>
              <a:ext cx="2516040" cy="5007960"/>
              <a:chOff x="2017800" y="120600"/>
              <a:chExt cx="2516040" cy="5007960"/>
            </a:xfrm>
          </p:grpSpPr>
          <p:sp>
            <p:nvSpPr>
              <p:cNvPr id="295" name="Text Box 72"/>
              <p:cNvSpPr/>
              <p:nvPr/>
            </p:nvSpPr>
            <p:spPr>
              <a:xfrm>
                <a:off x="2017800" y="501480"/>
                <a:ext cx="2516040" cy="46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Text Box 73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Group 74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298" name="Rectangle 75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76"/>
            <p:cNvGrpSpPr/>
            <p:nvPr/>
          </p:nvGrpSpPr>
          <p:grpSpPr>
            <a:xfrm>
              <a:off x="4703760" y="120600"/>
              <a:ext cx="2497320" cy="4199040"/>
              <a:chOff x="4703760" y="120600"/>
              <a:chExt cx="2497320" cy="4199040"/>
            </a:xfrm>
          </p:grpSpPr>
          <p:sp>
            <p:nvSpPr>
              <p:cNvPr id="300" name="Text Box 77"/>
              <p:cNvSpPr/>
              <p:nvPr/>
            </p:nvSpPr>
            <p:spPr>
              <a:xfrm>
                <a:off x="4703760" y="501480"/>
                <a:ext cx="2497320" cy="381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--#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--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Text Box 78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79"/>
            <p:cNvGrpSpPr/>
            <p:nvPr/>
          </p:nvGrpSpPr>
          <p:grpSpPr>
            <a:xfrm>
              <a:off x="2017800" y="120600"/>
              <a:ext cx="2516040" cy="5007960"/>
              <a:chOff x="2017800" y="120600"/>
              <a:chExt cx="2516040" cy="5007960"/>
            </a:xfrm>
          </p:grpSpPr>
          <p:sp>
            <p:nvSpPr>
              <p:cNvPr id="303" name="Text Box 80"/>
              <p:cNvSpPr/>
              <p:nvPr/>
            </p:nvSpPr>
            <p:spPr>
              <a:xfrm>
                <a:off x="2017800" y="501480"/>
                <a:ext cx="2516040" cy="46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Text Box 81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Group 82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306" name="Rectangle 83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84"/>
            <p:cNvGrpSpPr/>
            <p:nvPr/>
          </p:nvGrpSpPr>
          <p:grpSpPr>
            <a:xfrm>
              <a:off x="4703760" y="120600"/>
              <a:ext cx="2497320" cy="1233000"/>
              <a:chOff x="4703760" y="120600"/>
              <a:chExt cx="2497320" cy="1233000"/>
            </a:xfrm>
          </p:grpSpPr>
          <p:sp>
            <p:nvSpPr>
              <p:cNvPr id="308" name="Text Box 85"/>
              <p:cNvSpPr/>
              <p:nvPr/>
            </p:nvSpPr>
            <p:spPr>
              <a:xfrm>
                <a:off x="4703760" y="501480"/>
                <a:ext cx="249732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86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87"/>
            <p:cNvGrpSpPr/>
            <p:nvPr/>
          </p:nvGrpSpPr>
          <p:grpSpPr>
            <a:xfrm>
              <a:off x="2017800" y="120600"/>
              <a:ext cx="2516040" cy="1233000"/>
              <a:chOff x="2017800" y="120600"/>
              <a:chExt cx="2516040" cy="1233000"/>
            </a:xfrm>
          </p:grpSpPr>
          <p:sp>
            <p:nvSpPr>
              <p:cNvPr id="311" name="Text Box 88"/>
              <p:cNvSpPr/>
              <p:nvPr/>
            </p:nvSpPr>
            <p:spPr>
              <a:xfrm>
                <a:off x="2017800" y="501480"/>
                <a:ext cx="251604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A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89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Group 90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314" name="Rectangle 91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92"/>
            <p:cNvGrpSpPr/>
            <p:nvPr/>
          </p:nvGrpSpPr>
          <p:grpSpPr>
            <a:xfrm>
              <a:off x="4703760" y="120600"/>
              <a:ext cx="2497320" cy="1233000"/>
              <a:chOff x="4703760" y="120600"/>
              <a:chExt cx="2497320" cy="1233000"/>
            </a:xfrm>
          </p:grpSpPr>
          <p:sp>
            <p:nvSpPr>
              <p:cNvPr id="316" name="Text Box 93"/>
              <p:cNvSpPr/>
              <p:nvPr/>
            </p:nvSpPr>
            <p:spPr>
              <a:xfrm>
                <a:off x="4703760" y="501480"/>
                <a:ext cx="249732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A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94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95"/>
            <p:cNvGrpSpPr/>
            <p:nvPr/>
          </p:nvGrpSpPr>
          <p:grpSpPr>
            <a:xfrm>
              <a:off x="2017800" y="120600"/>
              <a:ext cx="2516040" cy="1233000"/>
              <a:chOff x="2017800" y="120600"/>
              <a:chExt cx="2516040" cy="1233000"/>
            </a:xfrm>
          </p:grpSpPr>
          <p:sp>
            <p:nvSpPr>
              <p:cNvPr id="319" name="Text Box 96"/>
              <p:cNvSpPr/>
              <p:nvPr/>
            </p:nvSpPr>
            <p:spPr>
              <a:xfrm>
                <a:off x="2017800" y="501480"/>
                <a:ext cx="2516040" cy="85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A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97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Group 98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322" name="Rectangle 99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Group 100"/>
            <p:cNvGrpSpPr/>
            <p:nvPr/>
          </p:nvGrpSpPr>
          <p:grpSpPr>
            <a:xfrm>
              <a:off x="4703760" y="120600"/>
              <a:ext cx="2497320" cy="4199040"/>
              <a:chOff x="4703760" y="120600"/>
              <a:chExt cx="2497320" cy="4199040"/>
            </a:xfrm>
          </p:grpSpPr>
          <p:sp>
            <p:nvSpPr>
              <p:cNvPr id="324" name="Text Box 101"/>
              <p:cNvSpPr/>
              <p:nvPr/>
            </p:nvSpPr>
            <p:spPr>
              <a:xfrm>
                <a:off x="4703760" y="501480"/>
                <a:ext cx="2497320" cy="381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A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-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Text Box 102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03"/>
            <p:cNvGrpSpPr/>
            <p:nvPr/>
          </p:nvGrpSpPr>
          <p:grpSpPr>
            <a:xfrm>
              <a:off x="2017800" y="120600"/>
              <a:ext cx="2516040" cy="4957200"/>
              <a:chOff x="2017800" y="120600"/>
              <a:chExt cx="2516040" cy="4957200"/>
            </a:xfrm>
          </p:grpSpPr>
          <p:sp>
            <p:nvSpPr>
              <p:cNvPr id="327" name="Text Box 104"/>
              <p:cNvSpPr/>
              <p:nvPr/>
            </p:nvSpPr>
            <p:spPr>
              <a:xfrm>
                <a:off x="2017800" y="501480"/>
                <a:ext cx="2516040" cy="45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A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105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106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330" name="Rectangle 107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108"/>
            <p:cNvGrpSpPr/>
            <p:nvPr/>
          </p:nvGrpSpPr>
          <p:grpSpPr>
            <a:xfrm>
              <a:off x="4703760" y="120600"/>
              <a:ext cx="2497320" cy="4199040"/>
              <a:chOff x="4703760" y="120600"/>
              <a:chExt cx="2497320" cy="4199040"/>
            </a:xfrm>
          </p:grpSpPr>
          <p:sp>
            <p:nvSpPr>
              <p:cNvPr id="332" name="Text Box 109"/>
              <p:cNvSpPr/>
              <p:nvPr/>
            </p:nvSpPr>
            <p:spPr>
              <a:xfrm>
                <a:off x="4703760" y="501480"/>
                <a:ext cx="2497320" cy="381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A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-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0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111"/>
            <p:cNvGrpSpPr/>
            <p:nvPr/>
          </p:nvGrpSpPr>
          <p:grpSpPr>
            <a:xfrm>
              <a:off x="2017800" y="120600"/>
              <a:ext cx="2516040" cy="4957200"/>
              <a:chOff x="2017800" y="120600"/>
              <a:chExt cx="2516040" cy="4957200"/>
            </a:xfrm>
          </p:grpSpPr>
          <p:sp>
            <p:nvSpPr>
              <p:cNvPr id="335" name="Text Box 112"/>
              <p:cNvSpPr/>
              <p:nvPr/>
            </p:nvSpPr>
            <p:spPr>
              <a:xfrm>
                <a:off x="2017800" y="501480"/>
                <a:ext cx="2516040" cy="45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A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3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Group 114"/>
          <p:cNvGrpSpPr/>
          <p:nvPr/>
        </p:nvGrpSpPr>
        <p:grpSpPr>
          <a:xfrm>
            <a:off x="1798560" y="44280"/>
            <a:ext cx="5639040" cy="5257800"/>
            <a:chOff x="1798560" y="44280"/>
            <a:chExt cx="5639040" cy="5257800"/>
          </a:xfrm>
        </p:grpSpPr>
        <p:sp>
          <p:nvSpPr>
            <p:cNvPr id="338" name="Rectangle 115"/>
            <p:cNvSpPr/>
            <p:nvPr/>
          </p:nvSpPr>
          <p:spPr>
            <a:xfrm>
              <a:off x="1798560" y="44280"/>
              <a:ext cx="5639040" cy="525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6"/>
            <p:cNvGrpSpPr/>
            <p:nvPr/>
          </p:nvGrpSpPr>
          <p:grpSpPr>
            <a:xfrm>
              <a:off x="4703760" y="120600"/>
              <a:ext cx="2497320" cy="4199040"/>
              <a:chOff x="4703760" y="120600"/>
              <a:chExt cx="2497320" cy="4199040"/>
            </a:xfrm>
          </p:grpSpPr>
          <p:sp>
            <p:nvSpPr>
              <p:cNvPr id="340" name="Text Box 117"/>
              <p:cNvSpPr/>
              <p:nvPr/>
            </p:nvSpPr>
            <p:spPr>
              <a:xfrm>
                <a:off x="4703760" y="501480"/>
                <a:ext cx="2497320" cy="381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A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9900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-#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--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-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--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009900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009900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Text Box 118"/>
              <p:cNvSpPr/>
              <p:nvPr/>
            </p:nvSpPr>
            <p:spPr>
              <a:xfrm>
                <a:off x="5311800" y="120600"/>
                <a:ext cx="127800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--#-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119"/>
            <p:cNvGrpSpPr/>
            <p:nvPr/>
          </p:nvGrpSpPr>
          <p:grpSpPr>
            <a:xfrm>
              <a:off x="2017800" y="120600"/>
              <a:ext cx="2516040" cy="4957200"/>
              <a:chOff x="2017800" y="120600"/>
              <a:chExt cx="2516040" cy="4957200"/>
            </a:xfrm>
          </p:grpSpPr>
          <p:sp>
            <p:nvSpPr>
              <p:cNvPr id="343" name="Text Box 120"/>
              <p:cNvSpPr/>
              <p:nvPr/>
            </p:nvSpPr>
            <p:spPr>
              <a:xfrm>
                <a:off x="2017800" y="501480"/>
                <a:ext cx="2516040" cy="45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A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T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.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: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||||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CAG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C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ATGC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G</a:t>
                </a:r>
                <a:r>
                  <a:rPr b="1" lang="en-US" sz="1600" spc="-1" strike="noStrike">
                    <a:solidFill>
                      <a:srgbClr val="808080"/>
                    </a:solidFill>
                    <a:latin typeface="Courier New"/>
                    <a:ea typeface="Arial"/>
                  </a:rPr>
                  <a:t>CAAGA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             </a:t>
                </a:r>
                <a:r>
                  <a:rPr b="1" lang="en-US" sz="1600" spc="-1" strike="noStrike">
                    <a:solidFill>
                      <a:srgbClr val="ff6600"/>
                    </a:solidFill>
                    <a:latin typeface="Courier New"/>
                    <a:ea typeface="Arial"/>
                  </a:rPr>
                  <a:t>#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1"/>
              <p:cNvSpPr/>
              <p:nvPr/>
            </p:nvSpPr>
            <p:spPr>
              <a:xfrm>
                <a:off x="2796480" y="120600"/>
                <a:ext cx="912240" cy="3128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#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Verdana"/>
              </a:rPr>
              <a:t>Разреженные затравки</a:t>
            </a: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: </a:t>
            </a:r>
            <a:r>
              <a:rPr b="1" lang="ru-RU" sz="3200" spc="-1" strike="noStrike">
                <a:solidFill>
                  <a:srgbClr val="3333cc"/>
                </a:solidFill>
                <a:latin typeface="Verdana"/>
              </a:rPr>
              <a:t>в чем преимущество перед классическими?</a:t>
            </a: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«Попадания» в соседних позициях менее завис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For contiguous vs. spaced seeds of the same weight, the expected number of hits is (basically) the same but the probabilities of having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t least one hit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are very differ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458120" cy="52167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0" y="0"/>
            <a:ext cx="895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ensitivity: PH weight 11 seed vs BLAST 11 &amp;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[after Ma, Tromp and L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3.4. Модели затравок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3333cc"/>
                </a:solidFill>
                <a:latin typeface="Verdana"/>
              </a:rPr>
              <a:t>А что дальше?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filter based on several distinct seed patt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seed pattern detects a part of interesting similarities but together they detect [almost] all of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Li, Ma, Kisman, Tromp 2004 (PatternHunter II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Kucherov, Noe, Roytberg, 200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16000" indent="-2160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Sun, Buhler, RECOMB 200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Verdana"/>
              </a:rPr>
              <a:t>3.4.1. Семейства затравок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39600" y="188640"/>
            <a:ext cx="82040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Verdana"/>
              </a:rPr>
              <a:t>Пример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3333cc"/>
                </a:solidFill>
                <a:latin typeface="Verdana"/>
              </a:rPr>
              <a:t>ВСЕ 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(18,3)</a:t>
            </a: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197720" y="765000"/>
            <a:ext cx="745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Ловить»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вс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сходства длины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которых не боле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совпад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Verdana"/>
              </a:rPr>
              <a:t>Чувствительность = 1.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Избирательность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вероятность случайного появления затравочного сходства)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&gt; M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Verdana"/>
              </a:rPr>
              <a:t>Пример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3333cc"/>
                </a:solidFill>
                <a:latin typeface="Verdana"/>
              </a:rPr>
              <a:t>ВСЕ 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(18,3)</a:t>
            </a: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наружить </a:t>
            </a: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вс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ходства длины </a:t>
            </a: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1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которых не боле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совпадени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жественная затравка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ешает проблему ВСЕ(18, 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травка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оит из двух простых затравок, каждая из них имеет вес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8" name="Group 54"/>
          <p:cNvGrpSpPr/>
          <p:nvPr/>
        </p:nvGrpSpPr>
        <p:grpSpPr>
          <a:xfrm>
            <a:off x="1042920" y="2781360"/>
            <a:ext cx="6244560" cy="947160"/>
            <a:chOff x="1042920" y="2781360"/>
            <a:chExt cx="6244560" cy="947160"/>
          </a:xfrm>
        </p:grpSpPr>
        <p:grpSp>
          <p:nvGrpSpPr>
            <p:cNvPr id="359" name="Group 55"/>
            <p:cNvGrpSpPr/>
            <p:nvPr/>
          </p:nvGrpSpPr>
          <p:grpSpPr>
            <a:xfrm>
              <a:off x="1042920" y="2781360"/>
              <a:ext cx="6244560" cy="947160"/>
              <a:chOff x="1042920" y="2781360"/>
              <a:chExt cx="6244560" cy="947160"/>
            </a:xfrm>
          </p:grpSpPr>
          <p:grpSp>
            <p:nvGrpSpPr>
              <p:cNvPr id="360" name="Group 56"/>
              <p:cNvGrpSpPr/>
              <p:nvPr/>
            </p:nvGrpSpPr>
            <p:grpSpPr>
              <a:xfrm>
                <a:off x="1042920" y="3168720"/>
                <a:ext cx="2743200" cy="152280"/>
                <a:chOff x="1042920" y="3168720"/>
                <a:chExt cx="2743200" cy="152280"/>
              </a:xfrm>
            </p:grpSpPr>
            <p:sp>
              <p:nvSpPr>
                <p:cNvPr id="361" name="Rectangle 57"/>
                <p:cNvSpPr/>
                <p:nvPr/>
              </p:nvSpPr>
              <p:spPr>
                <a:xfrm>
                  <a:off x="1042920" y="31687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58"/>
                <p:cNvSpPr/>
                <p:nvPr/>
              </p:nvSpPr>
              <p:spPr>
                <a:xfrm>
                  <a:off x="119556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Rectangle 59"/>
                <p:cNvSpPr/>
                <p:nvPr/>
              </p:nvSpPr>
              <p:spPr>
                <a:xfrm>
                  <a:off x="134784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60"/>
                <p:cNvSpPr/>
                <p:nvPr/>
              </p:nvSpPr>
              <p:spPr>
                <a:xfrm>
                  <a:off x="165276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61"/>
                <p:cNvSpPr/>
                <p:nvPr/>
              </p:nvSpPr>
              <p:spPr>
                <a:xfrm>
                  <a:off x="1500120" y="3168720"/>
                  <a:ext cx="152640" cy="152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Rectangle 62"/>
                <p:cNvSpPr/>
                <p:nvPr/>
              </p:nvSpPr>
              <p:spPr>
                <a:xfrm>
                  <a:off x="180504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63"/>
                <p:cNvSpPr/>
                <p:nvPr/>
              </p:nvSpPr>
              <p:spPr>
                <a:xfrm>
                  <a:off x="1957320" y="31687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64"/>
                <p:cNvSpPr/>
                <p:nvPr/>
              </p:nvSpPr>
              <p:spPr>
                <a:xfrm>
                  <a:off x="210996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Rectangle 65"/>
                <p:cNvSpPr/>
                <p:nvPr/>
              </p:nvSpPr>
              <p:spPr>
                <a:xfrm>
                  <a:off x="2262240" y="3168720"/>
                  <a:ext cx="152280" cy="152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66"/>
                <p:cNvSpPr/>
                <p:nvPr/>
              </p:nvSpPr>
              <p:spPr>
                <a:xfrm>
                  <a:off x="2414520" y="31687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67"/>
                <p:cNvSpPr/>
                <p:nvPr/>
              </p:nvSpPr>
              <p:spPr>
                <a:xfrm>
                  <a:off x="256716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Rectangle 68"/>
                <p:cNvSpPr/>
                <p:nvPr/>
              </p:nvSpPr>
              <p:spPr>
                <a:xfrm>
                  <a:off x="271944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69"/>
                <p:cNvSpPr/>
                <p:nvPr/>
              </p:nvSpPr>
              <p:spPr>
                <a:xfrm>
                  <a:off x="3024360" y="3168720"/>
                  <a:ext cx="152280" cy="1522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70"/>
                <p:cNvSpPr/>
                <p:nvPr/>
              </p:nvSpPr>
              <p:spPr>
                <a:xfrm>
                  <a:off x="2871720" y="31687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Rectangle 71"/>
                <p:cNvSpPr/>
                <p:nvPr/>
              </p:nvSpPr>
              <p:spPr>
                <a:xfrm>
                  <a:off x="3328920" y="31687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72"/>
                <p:cNvSpPr/>
                <p:nvPr/>
              </p:nvSpPr>
              <p:spPr>
                <a:xfrm>
                  <a:off x="348156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73"/>
                <p:cNvSpPr/>
                <p:nvPr/>
              </p:nvSpPr>
              <p:spPr>
                <a:xfrm>
                  <a:off x="363384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Rectangle 74"/>
                <p:cNvSpPr/>
                <p:nvPr/>
              </p:nvSpPr>
              <p:spPr>
                <a:xfrm>
                  <a:off x="3176640" y="31687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Text Box 75"/>
              <p:cNvSpPr/>
              <p:nvPr/>
            </p:nvSpPr>
            <p:spPr>
              <a:xfrm>
                <a:off x="4332960" y="2781360"/>
                <a:ext cx="2954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</a:t>
                </a:r>
                <a:r>
                  <a:rPr b="1" i="1" lang="fr-FR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</a:t>
                </a:r>
                <a:r>
                  <a:rPr b="1" i="1" lang="fr-FR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#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--</a:t>
                </a:r>
                <a:r>
                  <a:rPr b="1" i="1" lang="fr-FR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-</a:t>
                </a:r>
                <a:r>
                  <a:rPr b="1" i="1" lang="fr-FR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#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-</a:t>
                </a:r>
                <a:r>
                  <a:rPr b="1" i="1" lang="fr-FR" sz="28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AutoShape 76"/>
              <p:cNvSpPr/>
              <p:nvPr/>
            </p:nvSpPr>
            <p:spPr>
              <a:xfrm>
                <a:off x="4243320" y="3016440"/>
                <a:ext cx="152640" cy="38088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9720 h 380880"/>
                  <a:gd name="textAreaBottom" fmla="*/ 3711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2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Text Box 77"/>
            <p:cNvSpPr/>
            <p:nvPr/>
          </p:nvSpPr>
          <p:spPr>
            <a:xfrm>
              <a:off x="3929040" y="2970000"/>
              <a:ext cx="35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и вещи, которые нужно уточн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шая содержательную задач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1. ФОРМАЛЬНАЯ ПОСТАНОВКА ЗАДАЧ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    </a:t>
            </a: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2. АЛГОРИТМ РЕШЕН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    </a:t>
            </a: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3. ПРОВЕРКА – АДЕКВАТНО ЛИ ТО, ЧТ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         </a:t>
            </a:r>
            <a:r>
              <a:rPr b="1" i="1" lang="ru-RU" sz="2500" spc="-1" strike="noStrike">
                <a:solidFill>
                  <a:srgbClr val="3366ff"/>
                </a:solidFill>
                <a:latin typeface="Verdana"/>
              </a:rPr>
              <a:t>ПОЛУЧАЕТСЯ</a:t>
            </a:r>
            <a:r>
              <a:rPr b="1" i="1" lang="en-US" sz="25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Verdana"/>
              </a:rPr>
              <a:t>                  </a:t>
            </a:r>
            <a:r>
              <a:rPr b="1" i="1" lang="en-US" sz="2000" spc="-1" strike="noStrike">
                <a:solidFill>
                  <a:srgbClr val="3366ff"/>
                </a:solidFill>
                <a:latin typeface="Verdana"/>
              </a:rPr>
              <a:t>(</a:t>
            </a:r>
            <a:r>
              <a:rPr b="1" i="1" lang="ru-RU" sz="2000" spc="-1" strike="noStrike">
                <a:solidFill>
                  <a:srgbClr val="3366ff"/>
                </a:solidFill>
                <a:latin typeface="Verdana"/>
              </a:rPr>
              <a:t>ИСХОДНОЙ СОДЕРЖАТЕЛЬНОЙ ЗАДАЧ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79040" y="4724280"/>
            <a:ext cx="799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ак правило, уточнение этих вещ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роисходит взаимосвязано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теративно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4067280" y="3914640"/>
            <a:ext cx="4031280" cy="3080160"/>
            <a:chOff x="4067280" y="3914640"/>
            <a:chExt cx="4031280" cy="3080160"/>
          </a:xfrm>
        </p:grpSpPr>
        <p:sp>
          <p:nvSpPr>
            <p:cNvPr id="383" name="Text Box 3"/>
            <p:cNvSpPr/>
            <p:nvPr/>
          </p:nvSpPr>
          <p:spPr>
            <a:xfrm>
              <a:off x="4241160" y="3914640"/>
              <a:ext cx="38574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#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-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AutoShape 4"/>
            <p:cNvSpPr/>
            <p:nvPr/>
          </p:nvSpPr>
          <p:spPr>
            <a:xfrm>
              <a:off x="4067280" y="3990600"/>
              <a:ext cx="288360" cy="1219320"/>
            </a:xfrm>
            <a:custGeom>
              <a:avLst/>
              <a:gdLst>
                <a:gd name="textAreaLeft" fmla="*/ 184320 w 288360"/>
                <a:gd name="textAreaRight" fmla="*/ 288720 w 288360"/>
                <a:gd name="textAreaTop" fmla="*/ 28800 h 1219320"/>
                <a:gd name="textAreaBottom" fmla="*/ 119052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16"/>
                    <a:pt x="10800" y="1631"/>
                  </a:cubicBezTo>
                  <a:lnTo>
                    <a:pt x="10800" y="9169"/>
                  </a:lnTo>
                  <a:cubicBezTo>
                    <a:pt x="10800" y="9985"/>
                    <a:pt x="5400" y="10800"/>
                    <a:pt x="0" y="10800"/>
                  </a:cubicBezTo>
                  <a:cubicBezTo>
                    <a:pt x="5400" y="10800"/>
                    <a:pt x="10800" y="11616"/>
                    <a:pt x="10800" y="12431"/>
                  </a:cubicBezTo>
                  <a:lnTo>
                    <a:pt x="10800" y="19969"/>
                  </a:lnTo>
                  <a:cubicBezTo>
                    <a:pt x="10800" y="20785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18.3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6"/>
          <p:cNvGrpSpPr/>
          <p:nvPr/>
        </p:nvGrpSpPr>
        <p:grpSpPr>
          <a:xfrm>
            <a:off x="611280" y="2852640"/>
            <a:ext cx="2743200" cy="152280"/>
            <a:chOff x="611280" y="2852640"/>
            <a:chExt cx="2743200" cy="152280"/>
          </a:xfrm>
        </p:grpSpPr>
        <p:sp>
          <p:nvSpPr>
            <p:cNvPr id="387" name="Rectangle 7"/>
            <p:cNvSpPr/>
            <p:nvPr/>
          </p:nvSpPr>
          <p:spPr>
            <a:xfrm>
              <a:off x="611280" y="285264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76392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91620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122112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1"/>
            <p:cNvSpPr/>
            <p:nvPr/>
          </p:nvSpPr>
          <p:spPr>
            <a:xfrm>
              <a:off x="2897280" y="285264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>
              <a:off x="137340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13"/>
            <p:cNvSpPr/>
            <p:nvPr/>
          </p:nvSpPr>
          <p:spPr>
            <a:xfrm>
              <a:off x="1525680" y="285264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83060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5"/>
            <p:cNvSpPr/>
            <p:nvPr/>
          </p:nvSpPr>
          <p:spPr>
            <a:xfrm>
              <a:off x="1678320" y="28526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6"/>
            <p:cNvSpPr/>
            <p:nvPr/>
          </p:nvSpPr>
          <p:spPr>
            <a:xfrm>
              <a:off x="1982880" y="285264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7"/>
            <p:cNvSpPr/>
            <p:nvPr/>
          </p:nvSpPr>
          <p:spPr>
            <a:xfrm>
              <a:off x="213552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8"/>
            <p:cNvSpPr/>
            <p:nvPr/>
          </p:nvSpPr>
          <p:spPr>
            <a:xfrm>
              <a:off x="259272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2287800" y="28526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20"/>
            <p:cNvSpPr/>
            <p:nvPr/>
          </p:nvSpPr>
          <p:spPr>
            <a:xfrm>
              <a:off x="2440080" y="285264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21"/>
            <p:cNvSpPr/>
            <p:nvPr/>
          </p:nvSpPr>
          <p:spPr>
            <a:xfrm>
              <a:off x="1068480" y="285264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22"/>
            <p:cNvSpPr/>
            <p:nvPr/>
          </p:nvSpPr>
          <p:spPr>
            <a:xfrm>
              <a:off x="304992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23"/>
            <p:cNvSpPr/>
            <p:nvPr/>
          </p:nvSpPr>
          <p:spPr>
            <a:xfrm>
              <a:off x="320220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24"/>
            <p:cNvSpPr/>
            <p:nvPr/>
          </p:nvSpPr>
          <p:spPr>
            <a:xfrm>
              <a:off x="2745000" y="285264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25"/>
          <p:cNvGrpSpPr/>
          <p:nvPr/>
        </p:nvGrpSpPr>
        <p:grpSpPr>
          <a:xfrm>
            <a:off x="4356000" y="2565360"/>
            <a:ext cx="3044160" cy="1373760"/>
            <a:chOff x="4356000" y="2565360"/>
            <a:chExt cx="3044160" cy="1373760"/>
          </a:xfrm>
        </p:grpSpPr>
        <p:sp>
          <p:nvSpPr>
            <p:cNvPr id="406" name="Text Box 26"/>
            <p:cNvSpPr/>
            <p:nvPr/>
          </p:nvSpPr>
          <p:spPr>
            <a:xfrm>
              <a:off x="4445640" y="2565360"/>
              <a:ext cx="2954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28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utoShape 27"/>
            <p:cNvSpPr/>
            <p:nvPr/>
          </p:nvSpPr>
          <p:spPr>
            <a:xfrm>
              <a:off x="4356000" y="2800080"/>
              <a:ext cx="152640" cy="3812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9720 h 381240"/>
                <a:gd name="textAreaBottom" fmla="*/ 371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Text Box 28"/>
          <p:cNvSpPr/>
          <p:nvPr/>
        </p:nvSpPr>
        <p:spPr>
          <a:xfrm>
            <a:off x="541440" y="4581360"/>
            <a:ext cx="246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##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-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#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---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-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#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9"/>
          <p:cNvSpPr/>
          <p:nvPr/>
        </p:nvSpPr>
        <p:spPr>
          <a:xfrm>
            <a:off x="541440" y="3068640"/>
            <a:ext cx="277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##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---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--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#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-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    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##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---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--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#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Arial"/>
              </a:rPr>
              <a:t>-</a:t>
            </a:r>
            <a:r>
              <a:rPr b="1" lang="fr-FR" sz="2000" spc="-1" strike="noStrike">
                <a:solidFill>
                  <a:srgbClr val="3333cc"/>
                </a:solidFill>
                <a:latin typeface="Courier New"/>
                <a:ea typeface="Arial"/>
              </a:rPr>
              <a:t>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30"/>
          <p:cNvGrpSpPr/>
          <p:nvPr/>
        </p:nvGrpSpPr>
        <p:grpSpPr>
          <a:xfrm>
            <a:off x="611280" y="4437000"/>
            <a:ext cx="2743200" cy="152280"/>
            <a:chOff x="611280" y="4437000"/>
            <a:chExt cx="2743200" cy="152280"/>
          </a:xfrm>
        </p:grpSpPr>
        <p:sp>
          <p:nvSpPr>
            <p:cNvPr id="411" name="Rectangle 31"/>
            <p:cNvSpPr/>
            <p:nvPr/>
          </p:nvSpPr>
          <p:spPr>
            <a:xfrm>
              <a:off x="611280" y="44370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32"/>
            <p:cNvSpPr/>
            <p:nvPr/>
          </p:nvSpPr>
          <p:spPr>
            <a:xfrm>
              <a:off x="76392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33"/>
            <p:cNvSpPr/>
            <p:nvPr/>
          </p:nvSpPr>
          <p:spPr>
            <a:xfrm>
              <a:off x="91620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34"/>
            <p:cNvSpPr/>
            <p:nvPr/>
          </p:nvSpPr>
          <p:spPr>
            <a:xfrm>
              <a:off x="122112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35"/>
            <p:cNvSpPr/>
            <p:nvPr/>
          </p:nvSpPr>
          <p:spPr>
            <a:xfrm>
              <a:off x="2897280" y="443700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36"/>
            <p:cNvSpPr/>
            <p:nvPr/>
          </p:nvSpPr>
          <p:spPr>
            <a:xfrm>
              <a:off x="137340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7"/>
            <p:cNvSpPr/>
            <p:nvPr/>
          </p:nvSpPr>
          <p:spPr>
            <a:xfrm>
              <a:off x="1525680" y="44370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8"/>
            <p:cNvSpPr/>
            <p:nvPr/>
          </p:nvSpPr>
          <p:spPr>
            <a:xfrm>
              <a:off x="183060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39"/>
            <p:cNvSpPr/>
            <p:nvPr/>
          </p:nvSpPr>
          <p:spPr>
            <a:xfrm>
              <a:off x="1678320" y="4437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40"/>
            <p:cNvSpPr/>
            <p:nvPr/>
          </p:nvSpPr>
          <p:spPr>
            <a:xfrm>
              <a:off x="1982880" y="44370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41"/>
            <p:cNvSpPr/>
            <p:nvPr/>
          </p:nvSpPr>
          <p:spPr>
            <a:xfrm>
              <a:off x="213552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42"/>
            <p:cNvSpPr/>
            <p:nvPr/>
          </p:nvSpPr>
          <p:spPr>
            <a:xfrm>
              <a:off x="259272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43"/>
            <p:cNvSpPr/>
            <p:nvPr/>
          </p:nvSpPr>
          <p:spPr>
            <a:xfrm>
              <a:off x="2287800" y="4437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44"/>
            <p:cNvSpPr/>
            <p:nvPr/>
          </p:nvSpPr>
          <p:spPr>
            <a:xfrm>
              <a:off x="2440080" y="44370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45"/>
            <p:cNvSpPr/>
            <p:nvPr/>
          </p:nvSpPr>
          <p:spPr>
            <a:xfrm>
              <a:off x="1068480" y="443700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46"/>
            <p:cNvSpPr/>
            <p:nvPr/>
          </p:nvSpPr>
          <p:spPr>
            <a:xfrm>
              <a:off x="304992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47"/>
            <p:cNvSpPr/>
            <p:nvPr/>
          </p:nvSpPr>
          <p:spPr>
            <a:xfrm>
              <a:off x="320220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48"/>
            <p:cNvSpPr/>
            <p:nvPr/>
          </p:nvSpPr>
          <p:spPr>
            <a:xfrm>
              <a:off x="2745000" y="443700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49"/>
          <p:cNvSpPr/>
          <p:nvPr/>
        </p:nvSpPr>
        <p:spPr>
          <a:xfrm>
            <a:off x="7833600" y="2535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  <a:ea typeface="Arial"/>
              </a:rPr>
              <a:t>w=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0"/>
          <p:cNvSpPr/>
          <p:nvPr/>
        </p:nvSpPr>
        <p:spPr>
          <a:xfrm>
            <a:off x="7849440" y="406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  <a:ea typeface="Arial"/>
              </a:rPr>
              <a:t>w=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617120" y="3200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cc"/>
                </a:solidFill>
                <a:latin typeface="Courier New"/>
                <a:ea typeface="Arial"/>
              </a:rPr>
              <a:t>###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616760" y="37339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cc"/>
                </a:solidFill>
                <a:latin typeface="Courier New"/>
                <a:ea typeface="Arial"/>
              </a:rPr>
              <a:t>###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Arial"/>
              </a:rPr>
              <a:t>-</a:t>
            </a:r>
            <a:r>
              <a:rPr b="1" i="1" lang="fr-FR" sz="1400" spc="-1" strike="noStrike">
                <a:solidFill>
                  <a:srgbClr val="3333cc"/>
                </a:solidFill>
                <a:latin typeface="Courier New"/>
                <a:ea typeface="Arial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1523880" y="4754520"/>
            <a:ext cx="1828800" cy="1312200"/>
            <a:chOff x="1523880" y="4754520"/>
            <a:chExt cx="1828800" cy="1312200"/>
          </a:xfrm>
        </p:grpSpPr>
        <p:sp>
          <p:nvSpPr>
            <p:cNvPr id="434" name="Text Box 5"/>
            <p:cNvSpPr/>
            <p:nvPr/>
          </p:nvSpPr>
          <p:spPr>
            <a:xfrm>
              <a:off x="1616040" y="4754520"/>
              <a:ext cx="173664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##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--</a:t>
              </a:r>
              <a:r>
                <a:rPr b="1" i="1" lang="fr-FR" sz="10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6"/>
            <p:cNvSpPr/>
            <p:nvPr/>
          </p:nvSpPr>
          <p:spPr>
            <a:xfrm>
              <a:off x="1523880" y="4830840"/>
              <a:ext cx="152640" cy="8380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18.3)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бирательнос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7" name="Group 8"/>
          <p:cNvGrpSpPr/>
          <p:nvPr/>
        </p:nvGrpSpPr>
        <p:grpSpPr>
          <a:xfrm>
            <a:off x="1523880" y="4130640"/>
            <a:ext cx="1659240" cy="520200"/>
            <a:chOff x="1523880" y="4130640"/>
            <a:chExt cx="1659240" cy="520200"/>
          </a:xfrm>
        </p:grpSpPr>
        <p:sp>
          <p:nvSpPr>
            <p:cNvPr id="438" name="Text Box 9"/>
            <p:cNvSpPr/>
            <p:nvPr/>
          </p:nvSpPr>
          <p:spPr>
            <a:xfrm>
              <a:off x="1615680" y="4130640"/>
              <a:ext cx="1567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#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-</a:t>
              </a:r>
              <a:r>
                <a:rPr b="1" i="1" lang="fr-FR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-</a:t>
              </a:r>
              <a:r>
                <a:rPr b="1" i="1" lang="fr-FR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#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-</a:t>
              </a:r>
              <a:r>
                <a:rPr b="1" i="1" lang="fr-FR" sz="1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#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AutoShape 10"/>
            <p:cNvSpPr/>
            <p:nvPr/>
          </p:nvSpPr>
          <p:spPr>
            <a:xfrm>
              <a:off x="1523880" y="4206960"/>
              <a:ext cx="152280" cy="3808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Text Box 11"/>
          <p:cNvSpPr/>
          <p:nvPr/>
        </p:nvSpPr>
        <p:spPr>
          <a:xfrm>
            <a:off x="3578400" y="3141720"/>
            <a:ext cx="38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w=4         ~39.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-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3595320" y="365760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w=5         ~9.8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3595320" y="419112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w=7         ~1.2 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3595320" y="495288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w=9         ~0.23 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258920" y="1125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збирательность семейства затравок – вероятность встретить хотя бы одну из них в случайном месте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matc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/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24000" y="1904760"/>
            <a:ext cx="8362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fferent mutational events have different proba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Transitions are usually over-represen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4678200" y="3195720"/>
            <a:ext cx="3718080" cy="12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TGCAATGCTCA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|.||.||||:||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CGCGATGCGCA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10224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3.4.2.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ДА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ЕТ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и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Verdana"/>
              </a:rPr>
              <a:t>МНОГОЕ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c000"/>
                </a:solidFill>
                <a:latin typeface="Verdana"/>
              </a:rPr>
              <a:t>ДРУГОЕ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1067040" y="2514600"/>
            <a:ext cx="3426840" cy="2669040"/>
            <a:chOff x="1067040" y="2514600"/>
            <a:chExt cx="3426840" cy="2669040"/>
          </a:xfrm>
        </p:grpSpPr>
        <p:grpSp>
          <p:nvGrpSpPr>
            <p:cNvPr id="449" name="Group 6"/>
            <p:cNvGrpSpPr/>
            <p:nvPr/>
          </p:nvGrpSpPr>
          <p:grpSpPr>
            <a:xfrm>
              <a:off x="1067040" y="2514600"/>
              <a:ext cx="3426840" cy="2669040"/>
              <a:chOff x="1067040" y="2514600"/>
              <a:chExt cx="3426840" cy="2669040"/>
            </a:xfrm>
          </p:grpSpPr>
          <p:grpSp>
            <p:nvGrpSpPr>
              <p:cNvPr id="450" name="Group 7"/>
              <p:cNvGrpSpPr/>
              <p:nvPr/>
            </p:nvGrpSpPr>
            <p:grpSpPr>
              <a:xfrm>
                <a:off x="1371600" y="3200400"/>
                <a:ext cx="1218600" cy="1221480"/>
                <a:chOff x="1371600" y="3200400"/>
                <a:chExt cx="1218600" cy="1221480"/>
              </a:xfrm>
            </p:grpSpPr>
            <p:grpSp>
              <p:nvGrpSpPr>
                <p:cNvPr id="451" name="Group 8"/>
                <p:cNvGrpSpPr/>
                <p:nvPr/>
              </p:nvGrpSpPr>
              <p:grpSpPr>
                <a:xfrm>
                  <a:off x="1371600" y="3200400"/>
                  <a:ext cx="1218600" cy="1221480"/>
                  <a:chOff x="1371600" y="3200400"/>
                  <a:chExt cx="1218600" cy="1221480"/>
                </a:xfrm>
              </p:grpSpPr>
              <p:sp>
                <p:nvSpPr>
                  <p:cNvPr id="452" name="Text Box 9"/>
                  <p:cNvSpPr/>
                  <p:nvPr/>
                </p:nvSpPr>
                <p:spPr>
                  <a:xfrm>
                    <a:off x="1371600" y="320040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Courier New"/>
                        <a:ea typeface="Arial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Text Box 10"/>
                  <p:cNvSpPr/>
                  <p:nvPr/>
                </p:nvSpPr>
                <p:spPr>
                  <a:xfrm>
                    <a:off x="2209680" y="3200400"/>
                    <a:ext cx="380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Courier New"/>
                        <a:ea typeface="Arial"/>
                      </a:rPr>
                      <a:t>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Text Box 11"/>
                  <p:cNvSpPr/>
                  <p:nvPr/>
                </p:nvSpPr>
                <p:spPr>
                  <a:xfrm>
                    <a:off x="1371600" y="396216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Courier New"/>
                        <a:ea typeface="Arial"/>
                      </a:rPr>
                      <a:t>G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Text Box 12"/>
                  <p:cNvSpPr/>
                  <p:nvPr/>
                </p:nvSpPr>
                <p:spPr>
                  <a:xfrm>
                    <a:off x="2209680" y="3962160"/>
                    <a:ext cx="380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Courier New"/>
                        <a:ea typeface="Arial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13"/>
                <p:cNvGrpSpPr/>
                <p:nvPr/>
              </p:nvGrpSpPr>
              <p:grpSpPr>
                <a:xfrm>
                  <a:off x="1676160" y="3504960"/>
                  <a:ext cx="609480" cy="609840"/>
                  <a:chOff x="1676160" y="3504960"/>
                  <a:chExt cx="609480" cy="609840"/>
                </a:xfrm>
              </p:grpSpPr>
              <p:sp>
                <p:nvSpPr>
                  <p:cNvPr id="457" name="Line 14"/>
                  <p:cNvSpPr/>
                  <p:nvPr/>
                </p:nvSpPr>
                <p:spPr>
                  <a:xfrm>
                    <a:off x="1676160" y="3505320"/>
                    <a:ext cx="609480" cy="6094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Line 15"/>
                  <p:cNvSpPr/>
                  <p:nvPr/>
                </p:nvSpPr>
                <p:spPr>
                  <a:xfrm flipV="1">
                    <a:off x="1676160" y="3504960"/>
                    <a:ext cx="609480" cy="6094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9" name="Line 16"/>
                <p:cNvSpPr/>
                <p:nvPr/>
              </p:nvSpPr>
              <p:spPr>
                <a:xfrm>
                  <a:off x="1676160" y="3429000"/>
                  <a:ext cx="609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17"/>
                <p:cNvSpPr/>
                <p:nvPr/>
              </p:nvSpPr>
              <p:spPr>
                <a:xfrm>
                  <a:off x="1676160" y="4191120"/>
                  <a:ext cx="609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18"/>
                <p:cNvSpPr/>
                <p:nvPr/>
              </p:nvSpPr>
              <p:spPr>
                <a:xfrm flipV="1">
                  <a:off x="1523880" y="3581280"/>
                  <a:ext cx="0" cy="45720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19"/>
                <p:cNvSpPr/>
                <p:nvPr/>
              </p:nvSpPr>
              <p:spPr>
                <a:xfrm flipV="1">
                  <a:off x="2384280" y="3581280"/>
                  <a:ext cx="0" cy="45720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3" name="Text Box 20"/>
              <p:cNvSpPr/>
              <p:nvPr/>
            </p:nvSpPr>
            <p:spPr>
              <a:xfrm>
                <a:off x="2590200" y="3657600"/>
                <a:ext cx="148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3333cc"/>
                    </a:solidFill>
                    <a:latin typeface="Times New Roman"/>
                    <a:ea typeface="Arial"/>
                  </a:rPr>
                  <a:t>transi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Text Box 21"/>
              <p:cNvSpPr/>
              <p:nvPr/>
            </p:nvSpPr>
            <p:spPr>
              <a:xfrm>
                <a:off x="1067040" y="2819520"/>
                <a:ext cx="182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transvers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Text Box 22"/>
              <p:cNvSpPr/>
              <p:nvPr/>
            </p:nvSpPr>
            <p:spPr>
              <a:xfrm>
                <a:off x="3855960" y="3260880"/>
                <a:ext cx="6379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3333cc"/>
                    </a:solidFill>
                    <a:latin typeface="Courier New"/>
                    <a:ea typeface="Arial"/>
                  </a:rPr>
                  <a:t>.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Text Box 23"/>
              <p:cNvSpPr/>
              <p:nvPr/>
            </p:nvSpPr>
            <p:spPr>
              <a:xfrm>
                <a:off x="2744640" y="251460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: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Text Box 24"/>
            <p:cNvSpPr/>
            <p:nvPr/>
          </p:nvSpPr>
          <p:spPr>
            <a:xfrm>
              <a:off x="3048120" y="3124080"/>
              <a:ext cx="533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25"/>
          <p:cNvGrpSpPr/>
          <p:nvPr/>
        </p:nvGrpSpPr>
        <p:grpSpPr>
          <a:xfrm>
            <a:off x="4678200" y="3195720"/>
            <a:ext cx="3718080" cy="1233720"/>
            <a:chOff x="4678200" y="3195720"/>
            <a:chExt cx="3718080" cy="1233720"/>
          </a:xfrm>
        </p:grpSpPr>
        <p:grpSp>
          <p:nvGrpSpPr>
            <p:cNvPr id="469" name="Group 26"/>
            <p:cNvGrpSpPr/>
            <p:nvPr/>
          </p:nvGrpSpPr>
          <p:grpSpPr>
            <a:xfrm>
              <a:off x="5684760" y="3273480"/>
              <a:ext cx="1649520" cy="1062000"/>
              <a:chOff x="5684760" y="3273480"/>
              <a:chExt cx="1649520" cy="1062000"/>
            </a:xfrm>
          </p:grpSpPr>
          <p:sp>
            <p:nvSpPr>
              <p:cNvPr id="470" name="Rectangle 27"/>
              <p:cNvSpPr/>
              <p:nvPr/>
            </p:nvSpPr>
            <p:spPr>
              <a:xfrm>
                <a:off x="6224760" y="3278160"/>
                <a:ext cx="187200" cy="10508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28"/>
              <p:cNvSpPr/>
              <p:nvPr/>
            </p:nvSpPr>
            <p:spPr>
              <a:xfrm>
                <a:off x="5684760" y="3273480"/>
                <a:ext cx="190440" cy="10573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29"/>
              <p:cNvSpPr/>
              <p:nvPr/>
            </p:nvSpPr>
            <p:spPr>
              <a:xfrm>
                <a:off x="7143840" y="3278160"/>
                <a:ext cx="190440" cy="1057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Text Box 30"/>
            <p:cNvSpPr/>
            <p:nvPr/>
          </p:nvSpPr>
          <p:spPr>
            <a:xfrm>
              <a:off x="4678200" y="3195720"/>
              <a:ext cx="3718080" cy="12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ATCAG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T</a:t>
              </a: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GC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A</a:t>
              </a: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ATGC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  <a:ea typeface="Arial"/>
                </a:rPr>
                <a:t>T</a:t>
              </a: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CAA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|||||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.</a:t>
              </a: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||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.</a:t>
              </a: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||||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  <a:ea typeface="Arial"/>
                </a:rPr>
                <a:t>:</a:t>
              </a: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||||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ATCAG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C</a:t>
              </a: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GC</a:t>
              </a:r>
              <a:r>
                <a:rPr b="1" lang="en-US" sz="2400" spc="-1" strike="noStrike">
                  <a:solidFill>
                    <a:srgbClr val="3333cc"/>
                  </a:solidFill>
                  <a:latin typeface="Courier New"/>
                  <a:ea typeface="Arial"/>
                </a:rPr>
                <a:t>G</a:t>
              </a: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ATGC</a:t>
              </a:r>
              <a:r>
                <a:rPr b="1" lang="en-US" sz="2400" spc="-1" strike="noStrike">
                  <a:solidFill>
                    <a:srgbClr val="ff0000"/>
                  </a:solidFill>
                  <a:latin typeface="Courier New"/>
                  <a:ea typeface="Arial"/>
                </a:rPr>
                <a:t>G</a:t>
              </a:r>
              <a:r>
                <a:rPr b="1" lang="en-US" sz="2400" spc="-1" strike="noStrike">
                  <a:solidFill>
                    <a:srgbClr val="808080"/>
                  </a:solidFill>
                  <a:latin typeface="Courier New"/>
                  <a:ea typeface="Arial"/>
                </a:rPr>
                <a:t>CAAG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ff"/>
                </a:solidFill>
                <a:latin typeface="Verdana"/>
              </a:rPr>
              <a:t>Extended seed alphabe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seed: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##@#-#@-###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‘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’ : obligatory match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‘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’ : joker position (“don’t care” posi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‘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’ : </a:t>
            </a:r>
            <a:r>
              <a:rPr b="1" i="1" lang="en-US" sz="2800" spc="-1" strike="noStrike">
                <a:solidFill>
                  <a:srgbClr val="3333cc"/>
                </a:solidFill>
                <a:latin typeface="Verdana"/>
              </a:rPr>
              <a:t>transition-constrained</a:t>
            </a: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 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on that corresponds to either a match or a transi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219320" y="23623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2916360" y="4508640"/>
            <a:ext cx="3733560" cy="163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##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@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#-#@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#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T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A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T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CA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|.||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.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: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C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G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G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CA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ff"/>
                </a:solidFill>
                <a:latin typeface="Verdana"/>
              </a:rPr>
              <a:t>Subset letters and seed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Seed </a:t>
            </a:r>
            <a:r>
              <a:rPr b="1" i="1" lang="en-US" sz="2800" spc="-1" strike="noStrike">
                <a:solidFill>
                  <a:srgbClr val="3333cc"/>
                </a:solidFill>
                <a:latin typeface="Verdana"/>
              </a:rPr>
              <a:t>letter</a:t>
            </a: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 is a subset of aligned pai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# = {(A,A), (C,C), (G,G), (T,T)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@ = {  (A,A), (C,C), (G,G), (T,T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,G), (G,A), (T,C), (C,T)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   = {all pairs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2556000" y="4292640"/>
            <a:ext cx="3733560" cy="163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##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@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#-#@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Arial"/>
              </a:rPr>
              <a:t>#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T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A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T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CA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|.||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.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: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C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G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GC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  <a:ea typeface="Arial"/>
              </a:rPr>
              <a:t>G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CA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травки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Выводы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лассические заправки не оптималь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я затравки, разберитесь, насколько они адекватны интересующему Вас классу сх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 чем мы не говори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строить хорошие затрав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числить чувствительность затрав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еще о многом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Введени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Использование затравок (se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Избирательность и чувствите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Типы затравок (seed mode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оиск всех разумных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локальных сходств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1403640" y="3284640"/>
            <a:ext cx="4225680" cy="3024720"/>
            <a:chOff x="1403640" y="3284640"/>
            <a:chExt cx="4225680" cy="3024720"/>
          </a:xfrm>
        </p:grpSpPr>
        <p:sp>
          <p:nvSpPr>
            <p:cNvPr id="98" name="Rectangle 3"/>
            <p:cNvSpPr/>
            <p:nvPr/>
          </p:nvSpPr>
          <p:spPr>
            <a:xfrm>
              <a:off x="2749320" y="3466800"/>
              <a:ext cx="2743200" cy="27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4"/>
            <p:cNvSpPr/>
            <p:nvPr/>
          </p:nvSpPr>
          <p:spPr>
            <a:xfrm>
              <a:off x="1403640" y="434916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ot pl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"/>
            <p:cNvSpPr/>
            <p:nvPr/>
          </p:nvSpPr>
          <p:spPr>
            <a:xfrm>
              <a:off x="2644560" y="3284640"/>
              <a:ext cx="2984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ctcgactcgggctcacgctcgcaccgggttacagcggtcgattg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flipH="1" rot="5400000">
              <a:off x="1208160" y="4716720"/>
              <a:ext cx="296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aggcctcgggctcgcgctcgcgcgctagacaccgggttacagcgt</a:t>
              </a:r>
              <a:r>
                <a:rPr b="0" lang="en-US" sz="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7"/>
          <p:cNvGrpSpPr/>
          <p:nvPr/>
        </p:nvGrpSpPr>
        <p:grpSpPr>
          <a:xfrm>
            <a:off x="3058920" y="3357720"/>
            <a:ext cx="5151960" cy="2633040"/>
            <a:chOff x="3058920" y="3357720"/>
            <a:chExt cx="5151960" cy="2633040"/>
          </a:xfrm>
        </p:grpSpPr>
        <p:grpSp>
          <p:nvGrpSpPr>
            <p:cNvPr id="103" name="Group 8"/>
            <p:cNvGrpSpPr/>
            <p:nvPr/>
          </p:nvGrpSpPr>
          <p:grpSpPr>
            <a:xfrm>
              <a:off x="3059280" y="3357720"/>
              <a:ext cx="1981080" cy="1523160"/>
              <a:chOff x="3059280" y="3357720"/>
              <a:chExt cx="1981080" cy="1523160"/>
            </a:xfrm>
          </p:grpSpPr>
          <p:sp>
            <p:nvSpPr>
              <p:cNvPr id="104" name="Line 9"/>
              <p:cNvSpPr/>
              <p:nvPr/>
            </p:nvSpPr>
            <p:spPr>
              <a:xfrm>
                <a:off x="3059280" y="3357720"/>
                <a:ext cx="914400" cy="9140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0"/>
              <p:cNvSpPr/>
              <p:nvPr/>
            </p:nvSpPr>
            <p:spPr>
              <a:xfrm>
                <a:off x="4430880" y="4271760"/>
                <a:ext cx="609480" cy="609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1"/>
              <p:cNvSpPr/>
              <p:nvPr/>
            </p:nvSpPr>
            <p:spPr>
              <a:xfrm>
                <a:off x="3973680" y="4271760"/>
                <a:ext cx="4572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2"/>
            <p:cNvGrpSpPr/>
            <p:nvPr/>
          </p:nvGrpSpPr>
          <p:grpSpPr>
            <a:xfrm>
              <a:off x="3058920" y="3357720"/>
              <a:ext cx="5151960" cy="2633040"/>
              <a:chOff x="3058920" y="3357720"/>
              <a:chExt cx="5151960" cy="2633040"/>
            </a:xfrm>
          </p:grpSpPr>
          <p:grpSp>
            <p:nvGrpSpPr>
              <p:cNvPr id="108" name="Group 13"/>
              <p:cNvGrpSpPr/>
              <p:nvPr/>
            </p:nvGrpSpPr>
            <p:grpSpPr>
              <a:xfrm>
                <a:off x="3058920" y="3357720"/>
                <a:ext cx="1981440" cy="1904040"/>
                <a:chOff x="3058920" y="3357720"/>
                <a:chExt cx="1981440" cy="1904040"/>
              </a:xfrm>
            </p:grpSpPr>
            <p:sp>
              <p:nvSpPr>
                <p:cNvPr id="109" name="AutoShape 14"/>
                <p:cNvSpPr/>
                <p:nvPr/>
              </p:nvSpPr>
              <p:spPr>
                <a:xfrm rot="5400000">
                  <a:off x="3973320" y="4195080"/>
                  <a:ext cx="151920" cy="1981080"/>
                </a:xfrm>
                <a:custGeom>
                  <a:avLst/>
                  <a:gdLst>
                    <a:gd name="textAreaLeft" fmla="*/ 0 w 151920"/>
                    <a:gd name="textAreaRight" fmla="*/ 106560 w 151920"/>
                    <a:gd name="textAreaTop" fmla="*/ 82440 h 1981080"/>
                    <a:gd name="textAreaBottom" fmla="*/ 1898640 h 19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15"/>
                <p:cNvSpPr/>
                <p:nvPr/>
              </p:nvSpPr>
              <p:spPr>
                <a:xfrm>
                  <a:off x="3059280" y="3357720"/>
                  <a:ext cx="0" cy="17521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6"/>
                <p:cNvSpPr/>
                <p:nvPr/>
              </p:nvSpPr>
              <p:spPr>
                <a:xfrm>
                  <a:off x="5040360" y="4881240"/>
                  <a:ext cx="0" cy="2282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AutoShape 17"/>
              <p:cNvCxnSpPr>
                <a:stCxn id="109" idx="2"/>
                <a:endCxn id="113" idx="1"/>
              </p:cNvCxnSpPr>
              <p:nvPr/>
            </p:nvCxnSpPr>
            <p:spPr>
              <a:xfrm flipH="1" rot="16200000">
                <a:off x="5033880" y="4273560"/>
                <a:ext cx="162360" cy="2135880"/>
              </a:xfrm>
              <a:prstGeom prst="bentConnector2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</p:cxnSp>
          <p:sp>
            <p:nvSpPr>
              <p:cNvPr id="113" name="Text Box 18"/>
              <p:cNvSpPr/>
              <p:nvPr/>
            </p:nvSpPr>
            <p:spPr>
              <a:xfrm>
                <a:off x="6181560" y="5165280"/>
                <a:ext cx="2029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  <a:ea typeface="Arial"/>
                  </a:rPr>
                  <a:t>Detected local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  <a:ea typeface="Arial"/>
                  </a:rPr>
                  <a:t>similarity</a:t>
                </a:r>
                <a:r>
                  <a:rPr b="1" i="1" lang="en-US" sz="1800" spc="-1" strike="noStrike">
                    <a:solidFill>
                      <a:srgbClr val="009900"/>
                    </a:solidFill>
                    <a:latin typeface="Times New Roman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Затравки: фильтрация пространства поиск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начала ищем небольшие и легко диагностируемые участки сходства («затравочные сходства»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eed similarit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алее ищем сходства только в окрестностях затравочных сходств (одного или нескольких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21"/>
          <p:cNvGrpSpPr/>
          <p:nvPr/>
        </p:nvGrpSpPr>
        <p:grpSpPr>
          <a:xfrm>
            <a:off x="3131280" y="3139920"/>
            <a:ext cx="4975200" cy="1347840"/>
            <a:chOff x="3131280" y="3139920"/>
            <a:chExt cx="4975200" cy="1347840"/>
          </a:xfrm>
        </p:grpSpPr>
        <p:grpSp>
          <p:nvGrpSpPr>
            <p:cNvPr id="117" name="Group 22"/>
            <p:cNvGrpSpPr/>
            <p:nvPr/>
          </p:nvGrpSpPr>
          <p:grpSpPr>
            <a:xfrm>
              <a:off x="3132000" y="3421080"/>
              <a:ext cx="1523880" cy="1066680"/>
              <a:chOff x="3132000" y="3421080"/>
              <a:chExt cx="1523880" cy="1066680"/>
            </a:xfrm>
          </p:grpSpPr>
          <p:sp>
            <p:nvSpPr>
              <p:cNvPr id="118" name="Line 23"/>
              <p:cNvSpPr/>
              <p:nvPr/>
            </p:nvSpPr>
            <p:spPr>
              <a:xfrm>
                <a:off x="3589200" y="3878280"/>
                <a:ext cx="152280" cy="1522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24"/>
              <p:cNvSpPr/>
              <p:nvPr/>
            </p:nvSpPr>
            <p:spPr>
              <a:xfrm>
                <a:off x="3132000" y="3421080"/>
                <a:ext cx="152280" cy="1522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25"/>
              <p:cNvSpPr/>
              <p:nvPr/>
            </p:nvSpPr>
            <p:spPr>
              <a:xfrm>
                <a:off x="4503600" y="4335480"/>
                <a:ext cx="152280" cy="1522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26"/>
            <p:cNvGrpSpPr/>
            <p:nvPr/>
          </p:nvGrpSpPr>
          <p:grpSpPr>
            <a:xfrm>
              <a:off x="3131280" y="3139920"/>
              <a:ext cx="4975200" cy="1180080"/>
              <a:chOff x="3131280" y="3139920"/>
              <a:chExt cx="4975200" cy="1180080"/>
            </a:xfrm>
          </p:grpSpPr>
          <p:sp>
            <p:nvSpPr>
              <p:cNvPr id="122" name="Text Box 27"/>
              <p:cNvSpPr/>
              <p:nvPr/>
            </p:nvSpPr>
            <p:spPr>
              <a:xfrm>
                <a:off x="6103080" y="3139920"/>
                <a:ext cx="200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Detected see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" name="AutoShape 28"/>
              <p:cNvCxnSpPr>
                <a:stCxn id="122" idx="1"/>
                <a:endCxn id="120" idx="0"/>
              </p:cNvCxnSpPr>
              <p:nvPr/>
            </p:nvCxnSpPr>
            <p:spPr>
              <a:xfrm flipH="1">
                <a:off x="4502880" y="3397320"/>
                <a:ext cx="1600920" cy="923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29"/>
              <p:cNvCxnSpPr>
                <a:stCxn id="122" idx="1"/>
                <a:endCxn id="118" idx="0"/>
              </p:cNvCxnSpPr>
              <p:nvPr/>
            </p:nvCxnSpPr>
            <p:spPr>
              <a:xfrm flipH="1">
                <a:off x="3588480" y="3397320"/>
                <a:ext cx="2515320" cy="465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5" name="AutoShape 30"/>
              <p:cNvCxnSpPr>
                <a:stCxn id="122" idx="1"/>
                <a:endCxn id="119" idx="0"/>
              </p:cNvCxnSpPr>
              <p:nvPr/>
            </p:nvCxnSpPr>
            <p:spPr>
              <a:xfrm flipH="1">
                <a:off x="3131280" y="3397320"/>
                <a:ext cx="2972520" cy="8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«Классическая затравка» </a:t>
            </a:r>
            <a:br>
              <a:rPr sz="3600"/>
            </a:br>
            <a:r>
              <a:rPr b="1" i="1" lang="ru-RU" sz="3200" spc="-1" strike="noStrike">
                <a:solidFill>
                  <a:srgbClr val="0000ff"/>
                </a:solidFill>
                <a:latin typeface="Verdana"/>
              </a:rPr>
              <a:t>(пример: 6 совпадений подряд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Verdana"/>
              </a:rPr>
              <a:t>Точные совпадения</a:t>
            </a: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Verdana"/>
              </a:rPr>
              <a:t>Затравка («затравочное слово», описание затравочных сходств)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 :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#####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Ве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: 6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#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: 16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впадений из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788720" y="1773360"/>
            <a:ext cx="1278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79640" y="4797360"/>
            <a:ext cx="4327560" cy="163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      </a:t>
            </a:r>
            <a:r>
              <a:rPr b="1" lang="en-US" sz="2400" spc="-1" strike="noStrike">
                <a:solidFill>
                  <a:srgbClr val="3366ff"/>
                </a:solidFill>
                <a:latin typeface="Courier New"/>
                <a:ea typeface="Arial"/>
              </a:rPr>
              <a:t>####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TCAGT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GCAAT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TCATG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|||.|.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||||||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|:||.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TCGGC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GCAATG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GCAAG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ff"/>
                </a:solidFill>
                <a:latin typeface="Verdana"/>
              </a:rPr>
              <a:t>Затравка ловит сходство</a:t>
            </a:r>
            <a:br>
              <a:rPr sz="3600"/>
            </a:br>
            <a:r>
              <a:rPr b="1" i="1" lang="ru-RU" sz="2800" spc="-1" strike="noStrike">
                <a:solidFill>
                  <a:srgbClr val="3366ff"/>
                </a:solidFill>
                <a:latin typeface="Verdana"/>
              </a:rPr>
              <a:t>(затравка соответствует сходству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5320" y="1905120"/>
            <a:ext cx="851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трав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#####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s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травочное сходство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равни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ATGCA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nsolas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ATGCA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ola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травка </a:t>
            </a:r>
            <a:r>
              <a:rPr b="0" lang="ru-RU" sz="2400" spc="-1" strike="noStrike">
                <a:solidFill>
                  <a:srgbClr val="3366ff"/>
                </a:solidFill>
                <a:latin typeface="Verdana"/>
              </a:rPr>
              <a:t>соответству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ходству в позиции 10 Затравка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не соответству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ходству в позиции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травка </a:t>
            </a:r>
            <a:r>
              <a:rPr b="0" lang="ru-RU" sz="2600" spc="-1" strike="noStrike">
                <a:solidFill>
                  <a:srgbClr val="3333cc"/>
                </a:solidFill>
                <a:latin typeface="Verdana"/>
              </a:rPr>
              <a:t>ловит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ходст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050920" y="3789360"/>
            <a:ext cx="5562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####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  <a:ea typeface="Arial"/>
              </a:rPr>
              <a:t>#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#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</a:t>
            </a:r>
            <a:r>
              <a:rPr b="1" lang="fr-FR" sz="2000" spc="-1" strike="noStrike">
                <a:solidFill>
                  <a:srgbClr val="3366ff"/>
                </a:solidFill>
                <a:latin typeface="Courier New"/>
                <a:ea typeface="Arial"/>
              </a:rPr>
              <a:t>#####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Arial"/>
              </a:rPr>
              <a:t>1   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3203640" y="4149720"/>
            <a:ext cx="2743200" cy="152280"/>
            <a:chOff x="3203640" y="4149720"/>
            <a:chExt cx="2743200" cy="152280"/>
          </a:xfrm>
        </p:grpSpPr>
        <p:sp>
          <p:nvSpPr>
            <p:cNvPr id="134" name="Rectangle 6"/>
            <p:cNvSpPr/>
            <p:nvPr/>
          </p:nvSpPr>
          <p:spPr>
            <a:xfrm>
              <a:off x="3203640" y="41497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335628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350856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3660840" y="41497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3813480" y="41497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396576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4118040" y="41497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27068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4422960" y="41497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5"/>
            <p:cNvSpPr/>
            <p:nvPr/>
          </p:nvSpPr>
          <p:spPr>
            <a:xfrm>
              <a:off x="4575240" y="41497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472788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7"/>
            <p:cNvSpPr/>
            <p:nvPr/>
          </p:nvSpPr>
          <p:spPr>
            <a:xfrm>
              <a:off x="488016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8"/>
            <p:cNvSpPr/>
            <p:nvPr/>
          </p:nvSpPr>
          <p:spPr>
            <a:xfrm>
              <a:off x="5032440" y="41497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9"/>
            <p:cNvSpPr/>
            <p:nvPr/>
          </p:nvSpPr>
          <p:spPr>
            <a:xfrm>
              <a:off x="518508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20"/>
            <p:cNvSpPr/>
            <p:nvPr/>
          </p:nvSpPr>
          <p:spPr>
            <a:xfrm>
              <a:off x="533736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1"/>
            <p:cNvSpPr/>
            <p:nvPr/>
          </p:nvSpPr>
          <p:spPr>
            <a:xfrm>
              <a:off x="5489640" y="4149720"/>
              <a:ext cx="15264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2"/>
            <p:cNvSpPr/>
            <p:nvPr/>
          </p:nvSpPr>
          <p:spPr>
            <a:xfrm>
              <a:off x="564228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3"/>
            <p:cNvSpPr/>
            <p:nvPr/>
          </p:nvSpPr>
          <p:spPr>
            <a:xfrm>
              <a:off x="5794560" y="414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403280" y="2997360"/>
            <a:ext cx="4226040" cy="3024720"/>
            <a:chOff x="1403280" y="2997360"/>
            <a:chExt cx="4226040" cy="3024720"/>
          </a:xfrm>
        </p:grpSpPr>
        <p:sp>
          <p:nvSpPr>
            <p:cNvPr id="153" name="Rectangle 3"/>
            <p:cNvSpPr/>
            <p:nvPr/>
          </p:nvSpPr>
          <p:spPr>
            <a:xfrm>
              <a:off x="2749320" y="3179520"/>
              <a:ext cx="2743200" cy="278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4"/>
            <p:cNvSpPr/>
            <p:nvPr/>
          </p:nvSpPr>
          <p:spPr>
            <a:xfrm>
              <a:off x="1403280" y="406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2644560" y="2997360"/>
              <a:ext cx="2984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ctcgactcgggctcacgctcgcaccgggttacagcggtcgattg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 flipH="1" rot="5400000">
              <a:off x="1208160" y="4429440"/>
              <a:ext cx="296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aggcctcgggctcgcgctcgcgcgctagacaccgggttacagcgt</a:t>
              </a:r>
              <a:r>
                <a:rPr b="0" lang="en-US" sz="6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3058920" y="3357720"/>
            <a:ext cx="5151960" cy="2633040"/>
            <a:chOff x="3058920" y="3357720"/>
            <a:chExt cx="5151960" cy="2633040"/>
          </a:xfrm>
        </p:grpSpPr>
        <p:grpSp>
          <p:nvGrpSpPr>
            <p:cNvPr id="158" name="Group 8"/>
            <p:cNvGrpSpPr/>
            <p:nvPr/>
          </p:nvGrpSpPr>
          <p:grpSpPr>
            <a:xfrm>
              <a:off x="3059280" y="3357720"/>
              <a:ext cx="1981080" cy="1523160"/>
              <a:chOff x="3059280" y="3357720"/>
              <a:chExt cx="1981080" cy="1523160"/>
            </a:xfrm>
          </p:grpSpPr>
          <p:sp>
            <p:nvSpPr>
              <p:cNvPr id="159" name="Line 9"/>
              <p:cNvSpPr/>
              <p:nvPr/>
            </p:nvSpPr>
            <p:spPr>
              <a:xfrm>
                <a:off x="3059280" y="3357720"/>
                <a:ext cx="914400" cy="91404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10"/>
              <p:cNvSpPr/>
              <p:nvPr/>
            </p:nvSpPr>
            <p:spPr>
              <a:xfrm>
                <a:off x="4430880" y="4271760"/>
                <a:ext cx="609480" cy="609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11"/>
              <p:cNvSpPr/>
              <p:nvPr/>
            </p:nvSpPr>
            <p:spPr>
              <a:xfrm>
                <a:off x="3973680" y="4271760"/>
                <a:ext cx="457200" cy="0"/>
              </a:xfrm>
              <a:prstGeom prst="line">
                <a:avLst/>
              </a:prstGeom>
              <a:ln w="25560">
                <a:solidFill>
                  <a:srgbClr val="3399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12"/>
            <p:cNvGrpSpPr/>
            <p:nvPr/>
          </p:nvGrpSpPr>
          <p:grpSpPr>
            <a:xfrm>
              <a:off x="3058920" y="3357720"/>
              <a:ext cx="5151960" cy="2633040"/>
              <a:chOff x="3058920" y="3357720"/>
              <a:chExt cx="5151960" cy="2633040"/>
            </a:xfrm>
          </p:grpSpPr>
          <p:grpSp>
            <p:nvGrpSpPr>
              <p:cNvPr id="163" name="Group 13"/>
              <p:cNvGrpSpPr/>
              <p:nvPr/>
            </p:nvGrpSpPr>
            <p:grpSpPr>
              <a:xfrm>
                <a:off x="3058920" y="3357720"/>
                <a:ext cx="1981440" cy="1904040"/>
                <a:chOff x="3058920" y="3357720"/>
                <a:chExt cx="1981440" cy="1904040"/>
              </a:xfrm>
            </p:grpSpPr>
            <p:sp>
              <p:nvSpPr>
                <p:cNvPr id="164" name="AutoShape 14"/>
                <p:cNvSpPr/>
                <p:nvPr/>
              </p:nvSpPr>
              <p:spPr>
                <a:xfrm rot="5400000">
                  <a:off x="3973320" y="4195080"/>
                  <a:ext cx="151920" cy="1981080"/>
                </a:xfrm>
                <a:custGeom>
                  <a:avLst/>
                  <a:gdLst>
                    <a:gd name="textAreaLeft" fmla="*/ 0 w 151920"/>
                    <a:gd name="textAreaRight" fmla="*/ 106560 w 151920"/>
                    <a:gd name="textAreaTop" fmla="*/ 82440 h 1981080"/>
                    <a:gd name="textAreaBottom" fmla="*/ 1898640 h 19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10800" y="0"/>
                        <a:pt x="21600" y="900"/>
                        <a:pt x="21600" y="1800"/>
                      </a:cubicBezTo>
                      <a:lnTo>
                        <a:pt x="21600" y="19800"/>
                      </a:lnTo>
                      <a:cubicBezTo>
                        <a:pt x="21600" y="20700"/>
                        <a:pt x="10800" y="21600"/>
                        <a:pt x="0" y="21600"/>
                      </a:cubicBezTo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15"/>
                <p:cNvSpPr/>
                <p:nvPr/>
              </p:nvSpPr>
              <p:spPr>
                <a:xfrm>
                  <a:off x="3059280" y="3357720"/>
                  <a:ext cx="0" cy="175212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16"/>
                <p:cNvSpPr/>
                <p:nvPr/>
              </p:nvSpPr>
              <p:spPr>
                <a:xfrm>
                  <a:off x="5040360" y="4881240"/>
                  <a:ext cx="0" cy="22824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67" name="AutoShape 17"/>
              <p:cNvCxnSpPr>
                <a:stCxn id="164" idx="2"/>
                <a:endCxn id="168" idx="1"/>
              </p:cNvCxnSpPr>
              <p:nvPr/>
            </p:nvCxnSpPr>
            <p:spPr>
              <a:xfrm flipH="1" rot="16200000">
                <a:off x="5033880" y="4273560"/>
                <a:ext cx="162360" cy="2135880"/>
              </a:xfrm>
              <a:prstGeom prst="bentConnector2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</p:cxnSp>
          <p:sp>
            <p:nvSpPr>
              <p:cNvPr id="168" name="Text Box 18"/>
              <p:cNvSpPr/>
              <p:nvPr/>
            </p:nvSpPr>
            <p:spPr>
              <a:xfrm>
                <a:off x="6181560" y="5165280"/>
                <a:ext cx="2029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  <a:ea typeface="Arial"/>
                  </a:rPr>
                  <a:t>Detected local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  <a:ea typeface="Arial"/>
                  </a:rPr>
                  <a:t>similarity</a:t>
                </a:r>
                <a:r>
                  <a:rPr b="1" i="1" lang="en-US" sz="1800" spc="-1" strike="noStrike">
                    <a:solidFill>
                      <a:srgbClr val="009900"/>
                    </a:solidFill>
                    <a:latin typeface="Times New Roman"/>
                    <a:ea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8029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Возможные проблем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3276000" y="3068640"/>
            <a:ext cx="4762080" cy="1347840"/>
            <a:chOff x="3276000" y="3068640"/>
            <a:chExt cx="4762080" cy="1347840"/>
          </a:xfrm>
        </p:grpSpPr>
        <p:grpSp>
          <p:nvGrpSpPr>
            <p:cNvPr id="171" name="Group 21"/>
            <p:cNvGrpSpPr/>
            <p:nvPr/>
          </p:nvGrpSpPr>
          <p:grpSpPr>
            <a:xfrm>
              <a:off x="3276720" y="3349800"/>
              <a:ext cx="1523880" cy="1066680"/>
              <a:chOff x="3276720" y="3349800"/>
              <a:chExt cx="1523880" cy="1066680"/>
            </a:xfrm>
          </p:grpSpPr>
          <p:sp>
            <p:nvSpPr>
              <p:cNvPr id="172" name="Line 22"/>
              <p:cNvSpPr/>
              <p:nvPr/>
            </p:nvSpPr>
            <p:spPr>
              <a:xfrm>
                <a:off x="3733920" y="3807000"/>
                <a:ext cx="152280" cy="1522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23"/>
              <p:cNvSpPr/>
              <p:nvPr/>
            </p:nvSpPr>
            <p:spPr>
              <a:xfrm>
                <a:off x="3276720" y="3349800"/>
                <a:ext cx="152280" cy="1522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24"/>
              <p:cNvSpPr/>
              <p:nvPr/>
            </p:nvSpPr>
            <p:spPr>
              <a:xfrm>
                <a:off x="4648320" y="4264200"/>
                <a:ext cx="152280" cy="1522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25"/>
            <p:cNvGrpSpPr/>
            <p:nvPr/>
          </p:nvGrpSpPr>
          <p:grpSpPr>
            <a:xfrm>
              <a:off x="3276000" y="3068640"/>
              <a:ext cx="4762080" cy="1191240"/>
              <a:chOff x="3276000" y="3068640"/>
              <a:chExt cx="4762080" cy="1191240"/>
            </a:xfrm>
          </p:grpSpPr>
          <p:sp>
            <p:nvSpPr>
              <p:cNvPr id="176" name="Text Box 26"/>
              <p:cNvSpPr/>
              <p:nvPr/>
            </p:nvSpPr>
            <p:spPr>
              <a:xfrm>
                <a:off x="6249600" y="3068640"/>
                <a:ext cx="17884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Найденные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затравк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7" name="AutoShape 27"/>
              <p:cNvCxnSpPr>
                <a:stCxn id="176" idx="1"/>
                <a:endCxn id="174" idx="0"/>
              </p:cNvCxnSpPr>
              <p:nvPr/>
            </p:nvCxnSpPr>
            <p:spPr>
              <a:xfrm flipH="1">
                <a:off x="4647600" y="3326040"/>
                <a:ext cx="1600920" cy="923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8" name="AutoShape 28"/>
              <p:cNvCxnSpPr>
                <a:stCxn id="176" idx="1"/>
                <a:endCxn id="172" idx="0"/>
              </p:cNvCxnSpPr>
              <p:nvPr/>
            </p:nvCxnSpPr>
            <p:spPr>
              <a:xfrm flipH="1">
                <a:off x="3733200" y="3326040"/>
                <a:ext cx="2515320" cy="465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9" name="AutoShape 29"/>
              <p:cNvCxnSpPr>
                <a:stCxn id="176" idx="1"/>
                <a:endCxn id="173" idx="0"/>
              </p:cNvCxnSpPr>
              <p:nvPr/>
            </p:nvCxnSpPr>
            <p:spPr>
              <a:xfrm flipH="1">
                <a:off x="3276000" y="3326040"/>
                <a:ext cx="2972520" cy="8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80" name="Line 30"/>
          <p:cNvSpPr/>
          <p:nvPr/>
        </p:nvSpPr>
        <p:spPr>
          <a:xfrm>
            <a:off x="5148360" y="4221000"/>
            <a:ext cx="215640" cy="2160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1"/>
          <p:cNvSpPr/>
          <p:nvPr/>
        </p:nvSpPr>
        <p:spPr>
          <a:xfrm flipH="1">
            <a:off x="5219280" y="3429000"/>
            <a:ext cx="865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2"/>
          <p:cNvSpPr/>
          <p:nvPr/>
        </p:nvSpPr>
        <p:spPr>
          <a:xfrm>
            <a:off x="5867280" y="4005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99"/>
                </a:solidFill>
                <a:uFillTx/>
                <a:latin typeface="Times New Roman"/>
              </a:rPr>
              <a:t>Случайно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ff7c80"/>
                </a:solidFill>
                <a:uFillTx/>
                <a:latin typeface="Times New Roman"/>
              </a:rPr>
              <a:t>сход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3"/>
          <p:cNvSpPr/>
          <p:nvPr/>
        </p:nvSpPr>
        <p:spPr>
          <a:xfrm flipH="1">
            <a:off x="5363640" y="4221000"/>
            <a:ext cx="576360" cy="1447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4"/>
          <p:cNvSpPr/>
          <p:nvPr/>
        </p:nvSpPr>
        <p:spPr>
          <a:xfrm>
            <a:off x="3276720" y="4292640"/>
            <a:ext cx="431640" cy="43164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0" y="4797360"/>
            <a:ext cx="26272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9999"/>
                </a:solidFill>
                <a:uFillTx/>
                <a:latin typeface="Times New Roman"/>
              </a:rPr>
              <a:t>Пропущенное сходство: не содержит затравок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 flipV="1">
            <a:off x="2050920" y="4581000"/>
            <a:ext cx="1368720" cy="79236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4816440" y="1413000"/>
            <a:ext cx="4327560" cy="163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3399"/>
                </a:solidFill>
                <a:latin typeface="Courier New"/>
                <a:ea typeface="Arial"/>
              </a:rPr>
              <a:t>#####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TCAGTGCAATGCTCATG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::|::::||||||:::..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CCGACACAATGCGTGAC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0" y="1413000"/>
            <a:ext cx="5076720" cy="163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  <a:ea typeface="Arial"/>
              </a:rPr>
              <a:t>##</a:t>
            </a:r>
            <a:r>
              <a:rPr b="1" lang="en-US" sz="2400" spc="-1" strike="noStrike">
                <a:solidFill>
                  <a:srgbClr val="00cc99"/>
                </a:solidFill>
                <a:latin typeface="Wingdings"/>
                <a:ea typeface="Wingdings"/>
              </a:rPr>
              <a:t>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  <a:ea typeface="Arial"/>
              </a:rPr>
              <a:t>### [16 of 20!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AG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  <a:ea typeface="Arial"/>
              </a:rPr>
              <a:t>T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G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G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  <a:ea typeface="Arial"/>
              </a:rPr>
              <a:t>A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TGCTCATG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.|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  <a:ea typeface="Arial"/>
              </a:rPr>
              <a:t>|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|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  <a:ea typeface="Arial"/>
              </a:rPr>
              <a:t>: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|||:||.||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ATCGG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  <a:ea typeface="Arial"/>
              </a:rPr>
              <a:t>T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GC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G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  <a:ea typeface="Arial"/>
              </a:rPr>
              <a:t>G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  <a:ea typeface="Arial"/>
              </a:rPr>
              <a:t>TGCGCAAG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9"/>
          <p:cNvSpPr/>
          <p:nvPr/>
        </p:nvSpPr>
        <p:spPr>
          <a:xfrm flipV="1">
            <a:off x="755640" y="2997360"/>
            <a:ext cx="21600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0"/>
          <p:cNvSpPr/>
          <p:nvPr/>
        </p:nvSpPr>
        <p:spPr>
          <a:xfrm flipV="1">
            <a:off x="7885080" y="2997000"/>
            <a:ext cx="287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ru-RU" sz="4000" spc="-1" strike="noStrike">
                <a:solidFill>
                  <a:srgbClr val="3333cc"/>
                </a:solidFill>
                <a:latin typeface="Verdana"/>
              </a:rPr>
              <a:t>Итак: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1341360"/>
            <a:ext cx="8444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  <a:ea typeface="Arial"/>
              </a:rPr>
              <a:t>Избирательность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Arial"/>
              </a:rPr>
              <a:t>”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3100" spc="-1" strike="noStrike">
                <a:solidFill>
                  <a:srgbClr val="3333cc"/>
                </a:solidFill>
                <a:latin typeface="Verdana"/>
                <a:ea typeface="Arial"/>
              </a:rPr>
              <a:t>Selectiv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Затрав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может НЕ быть частью </a:t>
            </a:r>
            <a:r>
              <a:rPr b="1" i="1" lang="ru-RU" sz="2800" spc="-1" strike="noStrike">
                <a:solidFill>
                  <a:srgbClr val="00cc99"/>
                </a:solidFill>
                <a:latin typeface="Verdana"/>
                <a:ea typeface="Arial"/>
              </a:rPr>
              <a:t>важного (для нас) схо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  <a:ea typeface="Arial"/>
              </a:rPr>
              <a:t>Чувствительность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  <a:ea typeface="Arial"/>
              </a:rPr>
              <a:t>”  </a:t>
            </a:r>
            <a:r>
              <a:rPr b="0" lang="en-US" sz="3100" spc="-1" strike="noStrike">
                <a:solidFill>
                  <a:srgbClr val="3333cc"/>
                </a:solidFill>
                <a:latin typeface="Verdana"/>
                <a:ea typeface="Arial"/>
              </a:rPr>
              <a:t>Sensitiv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cc99"/>
                </a:solidFill>
                <a:latin typeface="Verdana"/>
                <a:ea typeface="Arial"/>
              </a:rPr>
              <a:t>Важное (для нас) сходство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может НЕ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держать ни одной затравки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Нужно уточни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Verdana"/>
                <a:ea typeface="Arial"/>
              </a:rPr>
              <a:t>Что такое «важное сходство»</a:t>
            </a:r>
            <a:r>
              <a:rPr b="1" lang="en-US" sz="2400" spc="-1" strike="noStrike">
                <a:solidFill>
                  <a:srgbClr val="33cc33"/>
                </a:solidFill>
                <a:latin typeface="Verdana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Verdana"/>
              </a:rPr>
              <a:t>Что может быть мерой избирательности и чувствительности</a:t>
            </a:r>
            <a:r>
              <a:rPr b="1" lang="ru-RU" sz="36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44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бирательность затрав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~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i="1" lang="en-US" sz="2800" spc="-1" strike="noStrike" baseline="30000">
                <a:solidFill>
                  <a:srgbClr val="3333cc"/>
                </a:solidFill>
                <a:latin typeface="Times New Roman"/>
              </a:rPr>
              <a:t>-weigh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оятность ее обнаружения при сравнении независимых случайных последовательно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увствительность затрав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вероятность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ого, что затравка попадет в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важное сходство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ужно уточни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Verdana"/>
              </a:rPr>
              <a:t>Что такое «важное сходство»</a:t>
            </a:r>
            <a:r>
              <a:rPr b="1" lang="en-US" sz="2400" spc="-1" strike="noStrike">
                <a:solidFill>
                  <a:srgbClr val="33cc33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аково распределение вероятностей для важных сходств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09:42:29Z</dcterms:created>
  <dc:creator>noe</dc:creator>
  <dc:description/>
  <dc:language>en-US</dc:language>
  <cp:lastModifiedBy>mr</cp:lastModifiedBy>
  <dcterms:modified xsi:type="dcterms:W3CDTF">2015-08-16T07:08:29Z</dcterms:modified>
  <cp:revision>1108</cp:revision>
  <dc:subject/>
  <dc:title>Improved hit criteria for DNA local alignment</dc:title>
</cp:coreProperties>
</file>